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jpeg" ContentType="image/jpeg"/>
  <Override PartName="/ppt/media/image24.png" ContentType="image/png"/>
  <Override PartName="/ppt/media/image21.png" ContentType="image/png"/>
  <Override PartName="/ppt/media/image58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95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94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87.png" ContentType="image/png"/>
  <Override PartName="/ppt/media/image79.png" ContentType="image/png"/>
  <Override PartName="/ppt/media/image73.png" ContentType="image/png"/>
  <Override PartName="/ppt/media/image70.png" ContentType="image/png"/>
  <Override PartName="/ppt/media/image6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  <p:sldId id="316" r:id="rId90"/>
    <p:sldId id="317" r:id="rId91"/>
    <p:sldId id="318" r:id="rId92"/>
    <p:sldId id="319" r:id="rId93"/>
    <p:sldId id="320" r:id="rId94"/>
    <p:sldId id="321" r:id="rId95"/>
    <p:sldId id="322" r:id="rId96"/>
    <p:sldId id="323" r:id="rId97"/>
    <p:sldId id="324" r:id="rId9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slide" Target="slides/slide61.xml"/><Relationship Id="rId91" Type="http://schemas.openxmlformats.org/officeDocument/2006/relationships/slide" Target="slides/slide62.xml"/><Relationship Id="rId92" Type="http://schemas.openxmlformats.org/officeDocument/2006/relationships/slide" Target="slides/slide63.xml"/><Relationship Id="rId93" Type="http://schemas.openxmlformats.org/officeDocument/2006/relationships/slide" Target="slides/slide64.xml"/><Relationship Id="rId94" Type="http://schemas.openxmlformats.org/officeDocument/2006/relationships/slide" Target="slides/slide65.xml"/><Relationship Id="rId95" Type="http://schemas.openxmlformats.org/officeDocument/2006/relationships/slide" Target="slides/slide66.xml"/><Relationship Id="rId96" Type="http://schemas.openxmlformats.org/officeDocument/2006/relationships/slide" Target="slides/slide67.xml"/><Relationship Id="rId97" Type="http://schemas.openxmlformats.org/officeDocument/2006/relationships/slide" Target="slides/slide68.xml"/><Relationship Id="rId98" Type="http://schemas.openxmlformats.org/officeDocument/2006/relationships/slide" Target="slides/slide69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dt" idx="7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ftr" idx="7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 type="sldNum" idx="8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AD7D-0260-4DB5-98C0-232404F955F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BC2-CA7C-42B5-B248-0A2924332C1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4DC-0C2E-4312-81D5-2E83B116D3E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55C-5A46-4817-8333-D5D3BE4D250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9590-FA03-433E-BA86-A36AB6828BA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5B72-7150-4372-A126-291FBBDCCAB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1F7-EE9F-470A-AF0C-B1537F33691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128-274C-4647-83E5-BD1644DB933A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CA96-E110-4112-9C3C-78C29031744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CB5-B26E-43E8-9801-05199DC7D28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A5C-F3DB-46BF-A141-A69B25DE407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64C-FA69-498C-A986-D03879B720C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7117-C450-4F1C-902E-B230CFA89F3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2A4-3749-43B7-B569-84FBA9D2F20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9473-2662-4629-A19E-7834438C715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9F3-CBFF-422A-A4DD-19B28793B1B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2AF8-63C2-40F7-9EF1-7009CE91365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DEA-2D35-429B-8295-5923C8E2AE4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783-0465-4D9E-8CBA-6AA77CAFD78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E21-406B-4265-955C-55958D8A1CD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48FA23-5E16-44C5-8556-6F62223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E94571-3EB5-43D7-8897-9CA29BE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7450A-D898-4E68-8E4D-00E02B7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B36EE-DB15-4143-AAB3-16DC2BD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BD626-8389-4354-BA21-622FCC7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D0955-F6FE-4818-A399-708E10E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423FD-B36E-473B-8E99-4F1DDF4C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01B23-C6A5-4AEB-9CA6-441C426E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7353F-4F3A-4610-AC18-F3C901F9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B8709-E28D-49E6-B6C2-3BCC2540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A8C3B-1A47-44B0-87D9-75A5F2C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A554E9-410A-437C-AF21-4BF3C58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3AAF2-0EAC-4C44-8537-F59B797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3DBE1-860D-49D6-AF1B-576F202D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DDC44B-2457-4FFD-80ED-38611C7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3E1F0-80F2-4A4E-9EEA-ED48730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F15F2-EF59-481D-AD5D-27BFD8A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C03EA-8A9E-4DC5-A8A1-6F55241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0B2F1-2A98-4D3A-AAA8-E1A6458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20081-F733-4C07-A078-AA03B56E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D00B9-F17F-4C8A-BCDE-72A5244E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D1742D-6B48-4A82-9637-2AA79E1C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8C1D86-D040-4C26-9EA4-A99F1C0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E3BB8-C040-44CE-80DF-6896D32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A2681C-B87B-44F9-A4ED-806D6C2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C6AF5-80E9-471D-9D11-549B294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363433-16A8-41AD-ADB2-C814817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0AD375-A0B2-4E55-8356-535826F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F25FD-0D8C-4DD4-863D-1699931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0BB3BF-C6AE-4DBF-B714-0D07BFB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6CF64-754A-4985-A9CB-607615AA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D450E4-2B2F-4798-B1C5-E1D7E65C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FA62D-E4CB-4DD1-BF8E-BB8E231E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D8B275-8EAB-4342-BA75-07CA436E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03FB4-3FBD-409B-9679-F8A6082A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CEC451-CDA0-4589-AEBE-290FB118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50757F-6B60-434C-8731-64CA8B7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CC73DC-AE73-4A20-94B3-9CE92D8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2647E-3DD2-47EB-B457-C01D33B1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6B12D6-4D6C-4160-95A9-DA4479F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1BBCAC-19EE-4606-BEEC-286F9A7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BFC93E-E2E6-477D-B271-19B5D1C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40719-7CF7-47FF-B775-62D13B2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66DCCC-2D35-4974-B4FD-012A8A9E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34DA64-5271-4508-BC15-EEBDD07E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9E8578-FBAF-4DC1-A24B-080132D8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6790D4-EB1F-49B0-B0E7-81E8B57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3A9EDE-02C7-4216-B382-DB6E901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4BB5CA-B507-4A98-AA5F-E1C47265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87AB2B-46D5-430F-9D11-4C565923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A9AB2D-42E0-42F3-8B26-753602F2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2CBC69-A495-4B32-ABA7-76C6A1E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7AC3F0-56CA-40B0-8CFC-69EF32D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4F2B9A-0E03-40BE-A8BB-C8C6833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1D1B8-64E7-4759-BF3D-F17F92C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AC8AE8-F46A-4BD6-AA18-A0C14A5F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76A799-07F9-486B-B3EB-ADFD7ACC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29DC67-FDF8-4A93-98EA-84538079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E6BA67-0650-458D-A9EE-7E9968B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DB7BE5-2759-4973-A55E-D7FE07BF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94FB7F-DC10-4D29-A956-A232797E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8B0AA8-77EF-4B19-B223-1B064F9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C817D5-D089-4D3F-BD91-42087233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433C79-B9A1-4B92-9D18-F6FCAE1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490C78-E210-44CF-B512-2F2202C5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BA11B4-D11F-417E-AF0A-28B055D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6797CE-E706-4DA0-AD0C-9D1F6DD5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916AB-272D-4474-89A3-ED593C07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57BECC-6E3D-4396-8E3B-2CC6519F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FDA639-CD60-4860-99C8-508E9392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C9BBE7-94EC-4B28-B6CD-2BCBDBA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4E408E-4EA8-4727-8EDA-7908E03B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1DFB55-6B33-4C1E-AD00-A626B7E7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F840DA-D9DC-4997-8613-3E6A56E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B09E8F-3A0E-4EFF-96CF-7FCF75E1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0C09E9-274F-441A-8434-D79C1E8E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556A15-5F8C-4F6A-A841-F4D1E56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C2B2CF-78B8-409E-BFC2-A16AB0B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6E73D3-CE4B-4839-86D1-E8C9A96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6387EF-C26E-4C36-8AFC-89B44305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275E1E-CEB3-4AD2-9C42-06D93B75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DDD3EA-691F-42EE-B559-1B7D9EB0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6E2C00-5B9E-4624-8BD0-741858D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39A15A-7365-47F4-A28C-A3B7E0FB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4F8A25-0480-4E54-BB5A-E1C7EA8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651675-A752-4339-BE9A-1915795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A273F5-8038-4071-A1B3-26A2B44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111CEC-EAC7-4EF5-941F-0B90CE5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E930C0-FE9C-44D9-8D57-7A143D68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6A80CD-B1A3-4751-AA53-04C085D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D084D3-F14F-4B6F-B121-A01281A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8FEA13-BFA1-410C-931A-B8171445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2C4348-2523-471E-8C40-4F7AED81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C57A30-7F27-43A6-ABE4-1D3A7100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8380C3-89A0-443A-B1E4-D3B374E3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F321A7-B270-483E-A927-38B472B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EFC4D2-6007-4D72-868E-D47C8E3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B30BBC-4525-483A-956C-385D4BCD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6F91B6-4FB2-4AD9-A82F-DDAD534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A873BD-F539-4096-8094-229AEE1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E1BE5E-13CB-45DB-BEEA-3A5C862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B30A46-0C29-4BA5-B3F0-C427BAB2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AABFD0-2ACD-4517-831A-449BB60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7C3CD4-78EC-4AF4-8A01-77770BCD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B6159D-FE71-47E4-B0CD-12EF390F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494A6-5459-4B71-AEFC-4A3824D6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3FFA4B-5A41-47F8-B4EE-373BB3C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5FC412-7638-4D2C-95EC-B4961CA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B1136C-1C1A-4E95-AAB4-585F044F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4757F3-1E5B-4F37-81F0-0456341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48D9ED-FA41-4CFB-86F9-325B1F7F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F0C5C8-149D-4CBA-9D8E-57CC133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C6BB45-28C5-49A9-A199-A2A50FB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93D073-525A-445A-A1D9-CAAFA7D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315462-C1C2-4E88-83C0-8542999F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D34285-3AAC-4F64-B03C-4A979663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054324-3AC9-4DB3-AA7B-2DC5FC92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AC792A-ED0D-4AFA-8FFA-8B37AAB5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130626-7043-4DA0-A3A8-CA0073F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191B0D-535B-4541-AB87-F8ABA69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507464-AA96-4C7A-B325-D63F4838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993D3A-A0AD-465A-8185-2D880E4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7A2A3A-B2B9-43C3-B313-634647BC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4B8F5D-C2FF-4C4A-B1CA-5CD4686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418F6F-0372-4477-A21F-08BC9D6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0598D5-31FD-40B7-8BE8-034F3F89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8F1E4E-4EEA-4593-A936-B24024A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B19EE0-5AA4-40B2-A4DD-52AA3317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3343B7-9E31-434B-9C99-275DFFC5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9FDCF8-2089-4670-9BE3-3B6EDA21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8EAD78-44C1-4382-8B71-506C7ADB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95ECF9-F652-4647-949D-0BA2FDB2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86F4F6-B16A-4B46-894F-1F05DE9D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AB1E7D-22AA-45C4-A1B1-2628C546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143551-D0AA-4042-8389-C40F839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86AEC5-520A-46A4-B6AA-2724FB00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FF8F1D-FC9E-4395-B751-0BD080A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25C4A6-1078-46E4-A74F-076DA31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7F048E-662F-4776-89D3-64D1756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988B8A-D6ED-4F44-9958-174CA1E2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C83733-273A-4772-9626-DDAF7628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234A4A-C28B-4B8D-86DB-5F188F32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C42D46-D907-43C7-ADD5-73104285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B184B1A-AE56-4333-89EA-E8594E3E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D736F9-34F1-428E-9480-1BF243B5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8D16E3-DD0D-4100-8646-3863C0CD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8F2685-954A-42AA-AD61-FBDCFE27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490BAB-98EB-4763-A87A-9039F65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439EF6-5573-419F-AC79-5CC6254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886ADF-53F9-44A6-8F87-04EDD44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BAF19-8FAE-4378-9377-955045B0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983F86-AE31-4DEC-A234-20A4033B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CB6A05-7FDF-4DF3-9294-4B1E13B4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DC6F4E-4A78-414C-8F6C-B8960E40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27BFF8-85FC-421D-A893-7F134612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61C4E4-A0C2-46AD-A7C3-2C4EB2B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AC7CEC-FA67-4478-8ED2-F2104074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1AC2AD-61E1-4125-99EC-F7DAC9FA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6D2C51-C8F8-4795-9037-6E4113E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37A704-3178-49B9-A787-4C1FC1F4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43F748-592D-4DB5-B9A6-C49167D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AB22A-1C6F-4D3E-B1D9-0556BAD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DD360C-4446-49C5-BA90-CE3EE95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07354D-C151-450B-AE47-79DCEAF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A0A5D9-1A13-4C3A-8C64-9D104E7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831A9C-1078-4FA3-B47B-58A4583E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FD4F27-997D-4D18-88E5-7161FB4A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CEF64A-5248-4D07-99EA-053AF4DE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A11730-0FDC-4C4C-86B9-A6B0733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032B2B-5248-43E0-A0D0-C29779A5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D8DB56-2F3F-4313-8F59-9E84DA1B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5C3BB3-B169-4DC7-9F2E-D74EE52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B7B4-DFF6-4286-A2E5-FDBE3E8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080BD4-0145-4FB9-99EC-54F4B85F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15E815-3D03-44AB-AEFE-094EB60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C5CAAED-0F0A-44F6-931E-E73BFF4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17E6012-C55A-4D85-840A-DD7BA2C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1B38B9A-9FF5-43DC-B54B-3A08EF9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EEF5F1A-23DD-4AA9-9B6A-CE9D7FCF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49B092-9997-4923-89A6-CE0C9E45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66C405-A031-4EA4-A6F9-1C426A29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503905-F8DF-4B5B-A4C0-E7F4DC4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D2FCC7-B937-47FF-A0D8-C17E07CF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1F71-4613-4FBB-BD83-2C58201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7EB66D-D1E7-46D0-B8CE-0602C243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952407-5C52-4413-A959-2FD3378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F99057-7BD9-44AF-BA8A-C643E16A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60573A-B7EB-4956-B98A-36DAC966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63ED21-D171-4E89-B6A6-B3784E99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9ABD9D-61E1-4F0B-A7B8-64FDCDE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415BDB-4659-4CFA-8E7B-0DE77990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839388-17FB-4703-93B3-2C48EF23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2B2AA5-B15F-4813-A4F4-96535C19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D5B5E8-8CA1-4B3F-AD7F-C0A2D1C2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D68FF-63B2-431F-BF29-8B0189AF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E5B7E9-8AF0-472C-942A-EB5375F8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7DA147-B63F-4BCD-93D3-C7229CD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56999A-DA39-4D60-AF62-A9C87D56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E20A72-D2C0-4F51-BCAC-030123C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3BBD74-4AAB-42A3-B1D3-63A353C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73D4792-FC8E-4166-875E-A8E5430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4E22A4-1440-4A08-9C96-163F028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FA7EE3-466C-424F-9E48-5882CBC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201A8DE-602B-4ADD-98D8-4C20F38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3298DA-2481-405D-B394-5FE6A466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0829-19F1-42DB-9CDC-5027451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EFB4FC-60FD-457B-993E-53DBA32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C0B45F-B6D6-4384-84FA-9370B92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B822DC-1377-476F-AF99-6C66FD7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06B03B-5F32-49B4-85C2-099813D7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85A81A-E89C-4B03-AFE3-5857D827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46B585-4F47-4404-B659-E252EF5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356FF3-BA52-4DCE-A45A-620C2B1B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4F169C-9DD1-47B7-881F-311F5B7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613936-8AD2-46A6-A68D-C716D56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FA5B59-6D9E-4392-837D-3DB7CE2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55D2-9C9E-4F55-957F-2720B7E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47C624-918C-4D40-B860-7659B15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1D07B3-F48B-484A-8564-044669E4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291D8E-CAE7-4465-9650-980AA4E8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B5CD6D-0018-4774-8529-6B3404B7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6C2557-F202-470C-B553-58E401E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30AF59-7EC4-4C25-9FCC-F901770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7FAA54-95A7-4D62-BFE2-4730962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3BD4141-C2D1-480C-824C-1C33F93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9905C74-D0F3-46BC-9033-18251773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35F4D9-FA6A-447B-8922-B2CECF4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F33C-7645-4363-88E2-387EDE4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1757DA0-201A-444F-B495-7DDFF8D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C6BF00-3595-4687-816D-03B00AF4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C67E728-7C82-4FFC-9A01-DEC7A0E6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DD87109-637A-440C-82AE-EB01C74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2A3F28-B8BA-4327-BAE2-78BA685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8BA47-224D-491E-8C63-A7E39CE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4EF5D-18EA-498B-A0D2-4E9F032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CD00-A6EE-41C4-A78F-1973EB71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A3C72-EA4C-49DF-9A29-3B6BB798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D7562-D0D4-427B-B512-79D57437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0CAB7-ED92-47DA-8A86-0547B13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95555-F0D6-4BF5-99BD-15BA97F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66CCA-C2BF-4AF7-9A0C-F9F8999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41578-5E6D-42D0-A2DE-0A1B986A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CBD99-F215-466B-9CE7-4F6C182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4CE65-5D55-4109-9FFB-9506EC6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06AC2-B167-417A-B691-AA2ADDD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3153C-7AC0-4A12-B5E7-C3888BB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73463-55D9-4B88-9A80-FBE097C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D9B37-3476-4DE3-8B12-0EC801B9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405C0-7FCB-4C17-9427-80693598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65676-994E-4F15-A2CB-FCBD3561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97365-E8DB-489A-A60A-34564D1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8CA22-52D3-4A2A-AF0B-D64B24A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C3EF2-BA66-4817-9955-514D9F1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9B1D6-BA04-4B17-90F6-4E28AE6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295E7-4601-4B25-A13E-B3D218B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BD7DA-1463-410E-8C68-D93A189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661EC-ACF1-4DC8-94E6-A565E48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C5224-C1D1-40A7-90DD-5D0A321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A9B6D-2A15-4EDA-8265-7672685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5A100-B741-4F5C-A22D-867C2C7A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98BB2-6909-428E-A03C-5D00419A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D2520-CFE7-4482-AA73-3919AF94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0BD07-9424-49A8-89CE-E31984D2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6FA99-9504-4969-A4E9-0B32919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1BED4-AD97-4714-B6DC-45704AB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8C69D-3153-45F6-AB4A-BCF49E3F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AD7D6-74D3-4B1C-997A-394E8C3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0B81A-44D8-4783-8866-EB4C3E3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8D3BF-3C05-4A78-AA4A-E9BF24D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C2C5A-48D7-4F56-B497-476EF4D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AF036-8826-44B7-BD58-A2F148A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2EAD7-62A9-4745-A383-8EFC9443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4BCEC-5E5A-4B05-BF37-CF49C2D7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BCD68-2A36-478C-836C-1F1782A7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C49AC-BECC-4EF2-8163-D406ABD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FE84C-36AB-4631-9006-CB77111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62694-CF18-4AF1-A684-9C2D4C8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F86E1-1EE1-46B3-BB8A-40C1874A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FC521-30DE-48E8-A49D-B4587FC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6AB52-10A1-4BD5-9B50-615B62C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3037F-CF50-490E-B04C-2D10E55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E2304-F249-479F-B4D3-F1FA2F1E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0D64F-1618-4141-8FB0-44D25F7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10A0D-EE1E-4A2F-AB5F-F8B4CD19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8A1CF-6D3F-4045-A16F-0EB05B51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98F1F-1197-46CF-B140-C4EB564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1CED7-8C12-4D4A-8473-8A7C414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1DCE3-B907-47DC-905D-BFBD8B1B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BF389-C157-4C9B-958E-566EB67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EE797-72B3-47F3-979F-EBF457A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78E33-17E1-4BC3-9A59-88030C4C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97568-8D48-4B7F-A476-9140D14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5FC5D-1332-455B-98F3-829AF44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13F50-049F-4C91-AC65-1D291FC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837E9-2C62-49C1-AA39-D3C975F9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2DA68-6974-48E4-A5B7-20CE077C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A026D-477E-4162-AFEB-70BFB79F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490CFF-29A8-4860-B2FE-6939A96E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CDF075-0512-40C7-A58C-C9D9A651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B74786-53DF-4C0A-A183-B1F3BD4D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0FA2-EE95-4C87-BD84-93CF8E221E68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dt" idx="24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E8B-9C5B-4F82-9146-381B2D4BB31A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25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2A6-8533-466C-ACC2-4F865FCFC82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dt" idx="27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0814-24A2-4B7D-B4C5-EC2B8C0F5B9A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ftr" idx="28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DD5-0067-464D-8D26-A966EB7A533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dt" idx="30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9F3C-CD69-4E4D-96C1-5A248D8F7829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31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555-8192-495D-B58F-C521C3EA207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dt" idx="3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4B15-2FA0-4E6A-AEE8-4173C4A3C0A9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ftr" idx="3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692-7A9D-40BD-9380-F76A9B6EC8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dt" idx="3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C2A3-F147-4442-888B-74C0C3BB8765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ftr" idx="3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C88-C3F7-49E4-B81E-799517488C0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dt" idx="3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FE2-0635-459A-B8A0-3101FE07BF15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ftr" idx="4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Num" idx="41"/>
          </p:nvPr>
        </p:nvSpPr>
        <p:spPr>
          <a:xfrm>
            <a:off x="3276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E8D-37C4-4447-888C-EAD4C79D4F5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dt" idx="4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D34D-46B0-4ED8-B17C-9D6AE2FA2050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ftr" idx="4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0CE-4E47-4DE7-9E72-E00FF28A32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dt" idx="4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E96D-1893-4A13-9798-E4A0F3BF7CF9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ftr" idx="4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B3AF-1F2E-4948-96FB-4B22E41D340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dt" idx="48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81F5-69B8-4ECD-95B9-465A76EED772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49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6BC-6765-4B21-B7F0-8F6A84F304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dt" idx="5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4413-A584-47FB-89A8-204393C6B712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ftr" idx="5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14B-F09F-4F55-8A00-97F894262FE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pic>
        <p:nvPicPr>
          <p:cNvPr id="40" name="Прямоугольник 4" descr=""/>
          <p:cNvPicPr/>
          <p:nvPr/>
        </p:nvPicPr>
        <p:blipFill>
          <a:blip r:embed="rId3"/>
          <a:stretch/>
        </p:blipFill>
        <p:spPr>
          <a:xfrm>
            <a:off x="-42840" y="6400800"/>
            <a:ext cx="9266040" cy="530280"/>
          </a:xfrm>
          <a:prstGeom prst="rect">
            <a:avLst/>
          </a:prstGeom>
          <a:ln w="0">
            <a:noFill/>
          </a:ln>
        </p:spPr>
      </p:pic>
      <p:grpSp>
        <p:nvGrpSpPr>
          <p:cNvPr id="41" name="Группа 7"/>
          <p:cNvGrpSpPr/>
          <p:nvPr/>
        </p:nvGrpSpPr>
        <p:grpSpPr>
          <a:xfrm>
            <a:off x="14400" y="0"/>
            <a:ext cx="9107280" cy="1357200"/>
            <a:chOff x="14400" y="0"/>
            <a:chExt cx="9107280" cy="135720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4400" y="0"/>
              <a:ext cx="910728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9" descr="lotsia_software_logo_179x158.gif"/>
            <p:cNvPicPr/>
            <p:nvPr/>
          </p:nvPicPr>
          <p:blipFill>
            <a:blip r:embed="rId5"/>
            <a:stretch/>
          </p:blipFill>
          <p:spPr>
            <a:xfrm>
              <a:off x="115920" y="49320"/>
              <a:ext cx="1504440" cy="121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dt" idx="54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FBF-5685-4910-BD34-25A8D4093755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ftr" idx="55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C760-72F5-4ED2-A241-0F97CD7C543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dt" idx="57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прель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ftr" idx="58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08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59"/>
          </p:nvPr>
        </p:nvSpPr>
        <p:spPr>
          <a:xfrm>
            <a:off x="3276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D605-21D2-4899-9BD4-0F72836A6DA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dt" idx="60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E1F-BC3A-44AF-8946-47019E9914BC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61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A0F-6804-4CE8-BA62-0B978BF4E02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dt" idx="6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730-7BD4-4EBA-9C8B-92DCDB5C2327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ftr" idx="6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2833-6D1C-49FD-8718-BB50441407C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dt" idx="6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30D-DBFC-4F1F-97A2-7D4F787340EE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6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124-0192-4B82-BC9D-39C5E69920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1"/>
          <p:cNvSpPr>
            <a:spLocks noGrp="1"/>
          </p:cNvSpPr>
          <p:nvPr>
            <p:ph type="dt" idx="6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30B-7A85-4546-BC79-5E3133F58BF4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ftr" idx="7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AEB-5275-4AEB-8C4B-5335144117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dt" idx="7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E7D-E22C-4476-B7DF-0A0C3E93A533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ftr" idx="7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CBAC-B674-4D92-BC38-2105E61A805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dt" idx="7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875-B4C1-4770-A1E8-2D4F1AC54186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ftr" idx="7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© 2011, 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55F-126C-48F2-88DA-01EB6332A92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29BB-EBAA-47AB-A4E1-0682310E8236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4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7AD8-6159-4A75-946A-4FA472E804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6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3010-0D30-4A54-932D-D7F712141642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7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605D-7821-42FA-893A-38C112FC96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9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8B72-50B9-49F6-B7B8-927C14343D4C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0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0C3E-210A-482B-B0F9-38701A8A8C3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dt" idx="12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7ACC-44B0-41EB-8C24-79100D1680FB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3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EF0A-2CD5-4A9A-9E6D-5FF2D057ED5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dt" idx="15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89F-ACF7-47EB-99BE-61ED91623B22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6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CFE-4432-4E67-898F-7821BDD5E91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dt" idx="18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8D8C-179E-43D2-94BD-4611E3A5381F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9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A1B-7544-4197-BE92-A83A241367F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b4e3"/>
            </a:gs>
            <a:gs pos="100000">
              <a:srgbClr val="c6d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9" descr="lotsia_software_logo_179x158.gif"/>
          <p:cNvPicPr/>
          <p:nvPr/>
        </p:nvPicPr>
        <p:blipFill>
          <a:blip r:embed="rId2"/>
          <a:stretch/>
        </p:blipFill>
        <p:spPr>
          <a:xfrm>
            <a:off x="34920" y="0"/>
            <a:ext cx="1536840" cy="1357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dt" idx="21"/>
          </p:nvPr>
        </p:nvSpPr>
        <p:spPr>
          <a:xfrm>
            <a:off x="4548240" y="6232680"/>
            <a:ext cx="14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AE5-366F-4DF2-BDC1-3C2F4259C4CF}" type="datetime"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22"/>
          </p:nvPr>
        </p:nvSpPr>
        <p:spPr>
          <a:xfrm>
            <a:off x="3179520" y="623268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оция Соф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61C7-6CDC-446F-9F5F-7F7FEF35081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Общий обзор функциональности и решаемых зада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5722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Основные задачи</a:t>
            </a:r>
            <a:br>
              <a:rPr sz="3600"/>
            </a:b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8000" y="1557000"/>
            <a:ext cx="8928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ить входные данные в виде описательной части и фай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ить данные от несанкционированного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ировать данные в привычном виде и в соответствии с внутренними и отраслевыми стандартами (СПДС, ЕСКД, ЕСПД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шрутизировать документы между исполнителями (документооборот): придание официального статуса документам, проведение изменений, рассылка входящей корреспонденции, приказов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ледить – просмотр связей, изме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– по любым критер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ть найденное – скопировать, позаимствовать, применить как типовой 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ть выходные данные – аналитические отчеты по загрузке подразделений и исполнителей , различные перечни, квартальные пла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7381-6810-4AB3-B63C-455AEE49E50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2" descr=""/>
          <p:cNvPicPr/>
          <p:nvPr/>
        </p:nvPicPr>
        <p:blipFill>
          <a:blip r:embed="rId1"/>
          <a:stretch/>
        </p:blipFill>
        <p:spPr>
          <a:xfrm>
            <a:off x="5056200" y="4570560"/>
            <a:ext cx="4073400" cy="188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7" descr="snap"/>
          <p:cNvPicPr/>
          <p:nvPr/>
        </p:nvPicPr>
        <p:blipFill>
          <a:blip r:embed="rId2"/>
          <a:stretch/>
        </p:blipFill>
        <p:spPr>
          <a:xfrm>
            <a:off x="5056200" y="843120"/>
            <a:ext cx="4052880" cy="339696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0120" y="1557360"/>
            <a:ext cx="499572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ые формы ввод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лючение повторного в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справ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Заголовок 1"/>
          <p:cNvSpPr/>
          <p:nvPr/>
        </p:nvSpPr>
        <p:spPr>
          <a:xfrm>
            <a:off x="1692360" y="928800"/>
            <a:ext cx="309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5" name="Picture 13" descr=""/>
          <p:cNvPicPr/>
          <p:nvPr/>
        </p:nvPicPr>
        <p:blipFill>
          <a:blip r:embed="rId3"/>
          <a:stretch/>
        </p:blipFill>
        <p:spPr>
          <a:xfrm>
            <a:off x="60480" y="3078000"/>
            <a:ext cx="4724280" cy="3284640"/>
          </a:xfrm>
          <a:prstGeom prst="rect">
            <a:avLst/>
          </a:prstGeom>
          <a:ln w="0">
            <a:noFill/>
          </a:ln>
        </p:spPr>
      </p:pic>
      <p:sp>
        <p:nvSpPr>
          <p:cNvPr id="1156" name="TextBox 8"/>
          <p:cNvSpPr/>
          <p:nvPr/>
        </p:nvSpPr>
        <p:spPr>
          <a:xfrm>
            <a:off x="6084720" y="4121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прав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6"/>
          <p:cNvSpPr/>
          <p:nvPr/>
        </p:nvSpPr>
        <p:spPr>
          <a:xfrm>
            <a:off x="3776760" y="63514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Стрелка вправо 31"/>
          <p:cNvSpPr/>
          <p:nvPr/>
        </p:nvSpPr>
        <p:spPr>
          <a:xfrm rot="18372000">
            <a:off x="5710320" y="5482800"/>
            <a:ext cx="1785960" cy="515880"/>
          </a:xfrm>
          <a:prstGeom prst="rightArrow">
            <a:avLst>
              <a:gd name="adj1" fmla="val 50000"/>
              <a:gd name="adj2" fmla="val 50006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Стрелка влево 3"/>
          <p:cNvSpPr/>
          <p:nvPr/>
        </p:nvSpPr>
        <p:spPr>
          <a:xfrm rot="370200">
            <a:off x="3203280" y="3938400"/>
            <a:ext cx="2819160" cy="492120"/>
          </a:xfrm>
          <a:prstGeom prst="leftArrow">
            <a:avLst>
              <a:gd name="adj1" fmla="val 50000"/>
              <a:gd name="adj2" fmla="val 49993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Стрелка вниз 5"/>
          <p:cNvSpPr/>
          <p:nvPr/>
        </p:nvSpPr>
        <p:spPr>
          <a:xfrm rot="2742600">
            <a:off x="5506200" y="4378680"/>
            <a:ext cx="439920" cy="984240"/>
          </a:xfrm>
          <a:prstGeom prst="downArrow">
            <a:avLst>
              <a:gd name="adj1" fmla="val 50000"/>
              <a:gd name="adj2" fmla="val 49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Стрелка влево 15"/>
          <p:cNvSpPr/>
          <p:nvPr/>
        </p:nvSpPr>
        <p:spPr>
          <a:xfrm rot="5400000">
            <a:off x="6503760" y="3379680"/>
            <a:ext cx="927000" cy="466920"/>
          </a:xfrm>
          <a:prstGeom prst="leftArrow">
            <a:avLst>
              <a:gd name="adj1" fmla="val 50000"/>
              <a:gd name="adj2" fmla="val 49974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CB2-2959-42FB-8F87-4A195809E00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106200" y="1557000"/>
            <a:ext cx="461016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предпочтений различных пользователей (цвет форм, шрифты, способы редактирования по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Рисунок 9" descr="Snap1.jpg"/>
          <p:cNvPicPr/>
          <p:nvPr/>
        </p:nvPicPr>
        <p:blipFill>
          <a:blip r:embed="rId1"/>
          <a:stretch/>
        </p:blipFill>
        <p:spPr>
          <a:xfrm>
            <a:off x="4716360" y="2143080"/>
            <a:ext cx="4372200" cy="39387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3" descr=""/>
          <p:cNvPicPr/>
          <p:nvPr/>
        </p:nvPicPr>
        <p:blipFill>
          <a:blip r:embed="rId2"/>
          <a:stretch/>
        </p:blipFill>
        <p:spPr>
          <a:xfrm>
            <a:off x="49320" y="3349800"/>
            <a:ext cx="4610160" cy="2743200"/>
          </a:xfrm>
          <a:prstGeom prst="rect">
            <a:avLst/>
          </a:prstGeom>
          <a:ln w="0">
            <a:noFill/>
          </a:ln>
        </p:spPr>
      </p:pic>
      <p:sp>
        <p:nvSpPr>
          <p:cNvPr id="1167" name="Заголовок 1"/>
          <p:cNvSpPr/>
          <p:nvPr/>
        </p:nvSpPr>
        <p:spPr>
          <a:xfrm>
            <a:off x="1692360" y="928800"/>
            <a:ext cx="287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Номер слайда 5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7A2-EF20-4417-9C6A-7DC2A4080C3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Заголовок 1"/>
          <p:cNvSpPr/>
          <p:nvPr/>
        </p:nvSpPr>
        <p:spPr>
          <a:xfrm>
            <a:off x="1692360" y="928800"/>
            <a:ext cx="3166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1" name="Picture 7" descr="snap"/>
          <p:cNvPicPr/>
          <p:nvPr/>
        </p:nvPicPr>
        <p:blipFill>
          <a:blip r:embed="rId1"/>
          <a:stretch/>
        </p:blipFill>
        <p:spPr>
          <a:xfrm>
            <a:off x="71280" y="3497400"/>
            <a:ext cx="7453440" cy="3335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5" descr="_Pict"/>
          <p:cNvPicPr/>
          <p:nvPr/>
        </p:nvPicPr>
        <p:blipFill>
          <a:blip r:embed="rId2"/>
          <a:stretch/>
        </p:blipFill>
        <p:spPr>
          <a:xfrm>
            <a:off x="5003640" y="907920"/>
            <a:ext cx="4059360" cy="358488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106200" y="1557000"/>
            <a:ext cx="461016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предпочтений различных пользователей (цвет форм, шрифты, способы редактирования по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Номер слайда 5"/>
          <p:cNvSpPr/>
          <p:nvPr/>
        </p:nvSpPr>
        <p:spPr>
          <a:xfrm>
            <a:off x="7524720" y="64483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4E6B-0A23-492A-8A5B-04043DAF2B5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6600" y="141264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ое создание комплектов документов, возможность пакетного ввод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7" name="Picture 14" descr=""/>
          <p:cNvPicPr/>
          <p:nvPr/>
        </p:nvPicPr>
        <p:blipFill>
          <a:blip r:embed="rId1"/>
          <a:stretch/>
        </p:blipFill>
        <p:spPr>
          <a:xfrm>
            <a:off x="34920" y="3213000"/>
            <a:ext cx="4467240" cy="316872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5" descr=""/>
          <p:cNvPicPr/>
          <p:nvPr/>
        </p:nvPicPr>
        <p:blipFill>
          <a:blip r:embed="rId2"/>
          <a:stretch/>
        </p:blipFill>
        <p:spPr>
          <a:xfrm>
            <a:off x="4675320" y="2349360"/>
            <a:ext cx="4468680" cy="3167280"/>
          </a:xfrm>
          <a:prstGeom prst="rect">
            <a:avLst/>
          </a:prstGeom>
          <a:ln w="0">
            <a:noFill/>
          </a:ln>
        </p:spPr>
      </p:pic>
      <p:sp>
        <p:nvSpPr>
          <p:cNvPr id="1179" name="Стрелка вниз 3"/>
          <p:cNvSpPr/>
          <p:nvPr/>
        </p:nvSpPr>
        <p:spPr>
          <a:xfrm rot="1369200">
            <a:off x="2333520" y="2101680"/>
            <a:ext cx="484200" cy="3198960"/>
          </a:xfrm>
          <a:prstGeom prst="down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Стрелка вниз 12"/>
          <p:cNvSpPr/>
          <p:nvPr/>
        </p:nvSpPr>
        <p:spPr>
          <a:xfrm rot="19632600">
            <a:off x="4193640" y="2046240"/>
            <a:ext cx="484200" cy="2735280"/>
          </a:xfrm>
          <a:prstGeom prst="downArrow">
            <a:avLst>
              <a:gd name="adj1" fmla="val 50000"/>
              <a:gd name="adj2" fmla="val 50005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Заголовок 1"/>
          <p:cNvSpPr/>
          <p:nvPr/>
        </p:nvSpPr>
        <p:spPr>
          <a:xfrm>
            <a:off x="1692360" y="928800"/>
            <a:ext cx="2744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Ввод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2D4-D235-4732-A134-812B601824B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8" descr="snap"/>
          <p:cNvPicPr/>
          <p:nvPr/>
        </p:nvPicPr>
        <p:blipFill>
          <a:blip r:embed="rId1"/>
          <a:stretch/>
        </p:blipFill>
        <p:spPr>
          <a:xfrm>
            <a:off x="-247680" y="2808360"/>
            <a:ext cx="9410760" cy="402912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Заголовок 1"/>
          <p:cNvSpPr/>
          <p:nvPr/>
        </p:nvSpPr>
        <p:spPr>
          <a:xfrm>
            <a:off x="1403280" y="901800"/>
            <a:ext cx="3529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Электронный арх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Содержимое 2"/>
          <p:cNvSpPr/>
          <p:nvPr/>
        </p:nvSpPr>
        <p:spPr>
          <a:xfrm>
            <a:off x="71280" y="1341360"/>
            <a:ext cx="4332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ые типы документов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ов (модели, чертежи, текстовые документы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7" name="Picture 6" descr="_Pict"/>
          <p:cNvPicPr/>
          <p:nvPr/>
        </p:nvPicPr>
        <p:blipFill>
          <a:blip r:embed="rId2"/>
          <a:stretch/>
        </p:blipFill>
        <p:spPr>
          <a:xfrm>
            <a:off x="20520" y="2592360"/>
            <a:ext cx="5685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2" descr="snap"/>
          <p:cNvPicPr/>
          <p:nvPr/>
        </p:nvPicPr>
        <p:blipFill>
          <a:blip r:embed="rId3"/>
          <a:stretch/>
        </p:blipFill>
        <p:spPr>
          <a:xfrm>
            <a:off x="4718160" y="914400"/>
            <a:ext cx="4427280" cy="2693880"/>
          </a:xfrm>
          <a:prstGeom prst="rect">
            <a:avLst/>
          </a:prstGeom>
          <a:ln w="0">
            <a:noFill/>
          </a:ln>
        </p:spPr>
      </p:pic>
      <p:sp>
        <p:nvSpPr>
          <p:cNvPr id="118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C72-8053-4B49-8F50-38EFABA67F0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Группа 3"/>
          <p:cNvGrpSpPr/>
          <p:nvPr/>
        </p:nvGrpSpPr>
        <p:grpSpPr>
          <a:xfrm>
            <a:off x="5751360" y="2347920"/>
            <a:ext cx="3311640" cy="2665440"/>
            <a:chOff x="5751360" y="2347920"/>
            <a:chExt cx="3311640" cy="2665440"/>
          </a:xfrm>
        </p:grpSpPr>
        <p:pic>
          <p:nvPicPr>
            <p:cNvPr id="1191" name="Рисунок 6" descr="Snap1.jpg"/>
            <p:cNvPicPr/>
            <p:nvPr/>
          </p:nvPicPr>
          <p:blipFill>
            <a:blip r:embed="rId1"/>
            <a:stretch/>
          </p:blipFill>
          <p:spPr>
            <a:xfrm>
              <a:off x="5751360" y="2347920"/>
              <a:ext cx="331164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Овал 7"/>
            <p:cNvSpPr/>
            <p:nvPr/>
          </p:nvSpPr>
          <p:spPr>
            <a:xfrm>
              <a:off x="6001920" y="4475160"/>
              <a:ext cx="900000" cy="492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Основные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озможности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22320" y="1368000"/>
            <a:ext cx="67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ция с приложениями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desk AutoCA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вертикальными решениями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, Bentley MicroStation, SolidWorks, MS Project, MS Word, MS Excel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ни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текстовый поиск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ows Search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ЦП Крипто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ция со  ска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тандартная» интег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 в архив, открытие, версионность, синхронизация полей карточек и документов, распознавание структуры модели, обеспечение ссылочной целос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 использова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T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ля хранения фай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порт из внешних источников и баз дан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ь с внешним миром: собственный клиент внешней электронной поч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Заголовок 1"/>
          <p:cNvSpPr/>
          <p:nvPr/>
        </p:nvSpPr>
        <p:spPr>
          <a:xfrm>
            <a:off x="1403280" y="901800"/>
            <a:ext cx="3529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Электронный арх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D4C-63CF-421E-8C9C-B54B92966D9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14400" y="1412640"/>
            <a:ext cx="8805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карточек документов электронными подпис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интеграции с системами ЭЦ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8" name="Picture 8" descr="_Pict"/>
          <p:cNvPicPr/>
          <p:nvPr/>
        </p:nvPicPr>
        <p:blipFill>
          <a:blip r:embed="rId1"/>
          <a:stretch/>
        </p:blipFill>
        <p:spPr>
          <a:xfrm>
            <a:off x="5364000" y="2122560"/>
            <a:ext cx="3780000" cy="137772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1" descr="snap"/>
          <p:cNvPicPr/>
          <p:nvPr/>
        </p:nvPicPr>
        <p:blipFill>
          <a:blip r:embed="rId2"/>
          <a:stretch/>
        </p:blipFill>
        <p:spPr>
          <a:xfrm>
            <a:off x="14400" y="2165400"/>
            <a:ext cx="4680000" cy="291924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0" descr="snap"/>
          <p:cNvPicPr/>
          <p:nvPr/>
        </p:nvPicPr>
        <p:blipFill>
          <a:blip r:embed="rId3"/>
          <a:stretch/>
        </p:blipFill>
        <p:spPr>
          <a:xfrm>
            <a:off x="34920" y="3941640"/>
            <a:ext cx="3959280" cy="31593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9" descr="_snap"/>
          <p:cNvPicPr/>
          <p:nvPr/>
        </p:nvPicPr>
        <p:blipFill>
          <a:blip r:embed="rId4"/>
          <a:stretch/>
        </p:blipFill>
        <p:spPr>
          <a:xfrm>
            <a:off x="3995640" y="3508200"/>
            <a:ext cx="5148360" cy="20084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6" descr="_Pict"/>
          <p:cNvPicPr/>
          <p:nvPr/>
        </p:nvPicPr>
        <p:blipFill>
          <a:blip r:embed="rId5"/>
          <a:stretch/>
        </p:blipFill>
        <p:spPr>
          <a:xfrm>
            <a:off x="3600360" y="5546880"/>
            <a:ext cx="5508720" cy="1266840"/>
          </a:xfrm>
          <a:prstGeom prst="rect">
            <a:avLst/>
          </a:prstGeom>
          <a:ln w="0">
            <a:noFill/>
          </a:ln>
        </p:spPr>
      </p:pic>
      <p:sp>
        <p:nvSpPr>
          <p:cNvPr id="120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B7D-14B7-40B4-A125-2DF5823AD8C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дписание докум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71760" y="189000"/>
            <a:ext cx="7387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Защита от несанкционированного до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 Box 4"/>
          <p:cNvSpPr/>
          <p:nvPr/>
        </p:nvSpPr>
        <p:spPr>
          <a:xfrm>
            <a:off x="108000" y="1484280"/>
            <a:ext cx="878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ЬНОЕ разграничение прав доступа к объектам, файлам документов и верс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зрачно для конечного польз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динамического назначения пра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ледование прав дост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шаблонов пра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7" name="Picture 7" descr="snap"/>
          <p:cNvPicPr/>
          <p:nvPr/>
        </p:nvPicPr>
        <p:blipFill>
          <a:blip r:embed="rId1"/>
          <a:stretch/>
        </p:blipFill>
        <p:spPr>
          <a:xfrm>
            <a:off x="4067280" y="3325680"/>
            <a:ext cx="5076720" cy="34880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9" descr="snap"/>
          <p:cNvPicPr/>
          <p:nvPr/>
        </p:nvPicPr>
        <p:blipFill>
          <a:blip r:embed="rId2"/>
          <a:stretch/>
        </p:blipFill>
        <p:spPr>
          <a:xfrm>
            <a:off x="33480" y="4064040"/>
            <a:ext cx="3995640" cy="2749680"/>
          </a:xfrm>
          <a:prstGeom prst="rect">
            <a:avLst/>
          </a:prstGeom>
          <a:ln w="0">
            <a:noFill/>
          </a:ln>
        </p:spPr>
      </p:pic>
      <p:sp>
        <p:nvSpPr>
          <p:cNvPr id="120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8E2-0747-4BCC-BBDB-8ECBC052D9DE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Удобное структурирование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108000" y="1413000"/>
            <a:ext cx="27352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популярное представление данных – иерарх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спечивает практически неограниченные возможности по иерархическому представлению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2" name="Picture 2" descr=""/>
          <p:cNvPicPr/>
          <p:nvPr/>
        </p:nvPicPr>
        <p:blipFill>
          <a:blip r:embed="rId1"/>
          <a:stretch/>
        </p:blipFill>
        <p:spPr>
          <a:xfrm>
            <a:off x="3041640" y="1413000"/>
            <a:ext cx="6062760" cy="4968720"/>
          </a:xfrm>
          <a:prstGeom prst="rect">
            <a:avLst/>
          </a:prstGeom>
          <a:ln w="0">
            <a:noFill/>
          </a:ln>
        </p:spPr>
      </p:pic>
      <p:sp>
        <p:nvSpPr>
          <p:cNvPr id="121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EEFB-30FE-46C6-ACBA-4A07285876A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раткая информация о компании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«Лоция Соф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зависимая российская комп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1997 г. разработка и внедрение программы управления данными, электронного архива и документообо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большая, но высокопрофессиональ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0 предприятий-пользователей из 28 различных отрас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альное наличие работающих крупных внедр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е число внедрений в проектных организ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BA1-FBFE-4CAA-8427-D9CC5A6C193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бственный генератор отчё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108000" y="1413000"/>
            <a:ext cx="4816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ое представление данных – таблицы, диаграммы, граф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E52-8F7B-4CF3-B277-9C678066C61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Picture 3" descr="S:\Dmitry\_\5_3 Отчет с графиком.jpg"/>
          <p:cNvPicPr/>
          <p:nvPr/>
        </p:nvPicPr>
        <p:blipFill>
          <a:blip r:embed="rId1"/>
          <a:stretch/>
        </p:blipFill>
        <p:spPr>
          <a:xfrm>
            <a:off x="4924440" y="1413000"/>
            <a:ext cx="4176720" cy="1936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18" name="Picture 2" descr=""/>
          <p:cNvPicPr/>
          <p:nvPr/>
        </p:nvPicPr>
        <p:blipFill>
          <a:blip r:embed="rId2"/>
          <a:stretch/>
        </p:blipFill>
        <p:spPr>
          <a:xfrm>
            <a:off x="-3240" y="3044880"/>
            <a:ext cx="6345360" cy="3795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219" name="Picture 2" descr="S:\Dmitry\_\5_2 Отчет с графиком.jpg"/>
          <p:cNvPicPr/>
          <p:nvPr/>
        </p:nvPicPr>
        <p:blipFill>
          <a:blip r:embed="rId3"/>
          <a:stretch/>
        </p:blipFill>
        <p:spPr>
          <a:xfrm>
            <a:off x="3298680" y="4494240"/>
            <a:ext cx="5845320" cy="2319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Документо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34560" y="1412640"/>
            <a:ext cx="91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зуальное составление маршрутов любой сложности, в том числе с распараллелива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устойчивой повторяемости (соблюд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O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ршрутизация как документов, так и заданий (потоков раб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ческое назначение прав доступа по ходу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Picture 4" descr="_Pict"/>
          <p:cNvPicPr/>
          <p:nvPr/>
        </p:nvPicPr>
        <p:blipFill>
          <a:blip r:embed="rId1"/>
          <a:stretch/>
        </p:blipFill>
        <p:spPr>
          <a:xfrm>
            <a:off x="-30240" y="2882880"/>
            <a:ext cx="6481800" cy="400212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Шаблон входкорр"/>
          <p:cNvPicPr/>
          <p:nvPr/>
        </p:nvPicPr>
        <p:blipFill>
          <a:blip r:embed="rId2"/>
          <a:stretch/>
        </p:blipFill>
        <p:spPr>
          <a:xfrm>
            <a:off x="4572000" y="3408480"/>
            <a:ext cx="4572000" cy="3395520"/>
          </a:xfrm>
          <a:prstGeom prst="rect">
            <a:avLst/>
          </a:prstGeom>
          <a:ln w="0">
            <a:noFill/>
          </a:ln>
        </p:spPr>
      </p:pic>
      <p:sp>
        <p:nvSpPr>
          <p:cNvPr id="122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D7E-2B58-4D1B-BF7E-7BAC5B22D10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571760" y="33336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Документообор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403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 испол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ок текущи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на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Picture 6" descr="snap"/>
          <p:cNvPicPr/>
          <p:nvPr/>
        </p:nvPicPr>
        <p:blipFill>
          <a:blip r:embed="rId1"/>
          <a:stretch/>
        </p:blipFill>
        <p:spPr>
          <a:xfrm>
            <a:off x="6480" y="2550960"/>
            <a:ext cx="9123120" cy="24307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7" descr="snap"/>
          <p:cNvPicPr/>
          <p:nvPr/>
        </p:nvPicPr>
        <p:blipFill>
          <a:blip r:embed="rId2"/>
          <a:stretch/>
        </p:blipFill>
        <p:spPr>
          <a:xfrm>
            <a:off x="17640" y="5099040"/>
            <a:ext cx="9099360" cy="1444680"/>
          </a:xfrm>
          <a:prstGeom prst="rect">
            <a:avLst/>
          </a:prstGeom>
          <a:ln w="0">
            <a:noFill/>
          </a:ln>
        </p:spPr>
      </p:pic>
      <p:sp>
        <p:nvSpPr>
          <p:cNvPr id="122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810-06DC-407A-BCD7-A285BABC9C3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Управл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проектны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данны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TextBox 10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473-AFB4-4393-9C47-E290BE4AA21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Учёт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подхода к организации учёта прое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еддоговорной стадии (например, от тендера). Сначала регистрируются преддоговорные отношения. Договор может не заключаться, проектные работы не выполняться, но информация о несостоявшемся заказе и коммерческом предложении оста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проекта. Сначала регистрируется проект. Договорная документация может не учитываться или добавляться в проект позже – для учё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егистрация нов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320" y="1426680"/>
            <a:ext cx="9001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тся минимально достаточная информ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50D-AAEB-4252-9FC4-D0EB794A6DA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3" descr=""/>
          <p:cNvPicPr/>
          <p:nvPr/>
        </p:nvPicPr>
        <p:blipFill>
          <a:blip r:embed="rId1"/>
          <a:stretch/>
        </p:blipFill>
        <p:spPr>
          <a:xfrm>
            <a:off x="3227400" y="2335320"/>
            <a:ext cx="5902200" cy="4103640"/>
          </a:xfrm>
          <a:prstGeom prst="rect">
            <a:avLst/>
          </a:prstGeom>
          <a:ln w="0">
            <a:noFill/>
          </a:ln>
        </p:spPr>
      </p:pic>
      <p:sp>
        <p:nvSpPr>
          <p:cNvPr id="1240" name="Содержимое 2"/>
          <p:cNvSpPr/>
          <p:nvPr/>
        </p:nvSpPr>
        <p:spPr>
          <a:xfrm>
            <a:off x="4680" y="2017800"/>
            <a:ext cx="32353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раг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труд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кты проек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1" name="Прямая со стрелкой 9"/>
          <p:cNvCxnSpPr/>
          <p:nvPr/>
        </p:nvCxnSpPr>
        <p:spPr>
          <a:xfrm flipV="1">
            <a:off x="2528640" y="3585960"/>
            <a:ext cx="1972440" cy="86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42" name="Прямая со стрелкой 10"/>
          <p:cNvCxnSpPr/>
          <p:nvPr/>
        </p:nvCxnSpPr>
        <p:spPr>
          <a:xfrm flipV="1">
            <a:off x="2352600" y="3242880"/>
            <a:ext cx="4658400" cy="945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34560" y="1427040"/>
            <a:ext cx="91090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 разделов проекта может вводиться лично ГИПом (помощником ГИПа) или сотрудником  архивного подразд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е механизмы ввода данных по составу проекта – поштучный, пакетный, импорт из файлов и баз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ые визуальные группировки документации – по разделам, по разделам и томам, по том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ые разрезы хранения сгруппированной документации – по объектам проектирования, по договорам, по заказчикам, по года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B0C-FC97-4217-A464-1FBC0D80EBB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34560" y="1426680"/>
            <a:ext cx="5970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СЗИК, г. Санкт-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8" name="Picture 2" descr=""/>
          <p:cNvPicPr/>
          <p:nvPr/>
        </p:nvPicPr>
        <p:blipFill>
          <a:blip r:embed="rId1"/>
          <a:stretch/>
        </p:blipFill>
        <p:spPr>
          <a:xfrm>
            <a:off x="31680" y="2104920"/>
            <a:ext cx="5619960" cy="4297320"/>
          </a:xfrm>
          <a:prstGeom prst="rect">
            <a:avLst/>
          </a:prstGeom>
          <a:ln w="0">
            <a:noFill/>
          </a:ln>
        </p:spPr>
      </p:pic>
      <p:pic>
        <p:nvPicPr>
          <p:cNvPr id="1249" name="Рисунок 1" descr=""/>
          <p:cNvPicPr/>
          <p:nvPr/>
        </p:nvPicPr>
        <p:blipFill>
          <a:blip r:embed="rId2"/>
          <a:stretch/>
        </p:blipFill>
        <p:spPr>
          <a:xfrm>
            <a:off x="6005520" y="1398600"/>
            <a:ext cx="3103560" cy="5415120"/>
          </a:xfrm>
          <a:prstGeom prst="rect">
            <a:avLst/>
          </a:prstGeom>
          <a:ln w="0">
            <a:noFill/>
          </a:ln>
        </p:spPr>
      </p:pic>
      <p:sp>
        <p:nvSpPr>
          <p:cNvPr id="125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697C-9872-4EF0-9763-91C93C4905F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1" name="Object 431"/>
          <p:cNvGraphicFramePr/>
          <p:nvPr/>
        </p:nvGraphicFramePr>
        <p:xfrm>
          <a:off x="33480" y="1341360"/>
          <a:ext cx="6657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2" name="Object 4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" y="1341360"/>
                    <a:ext cx="6657840" cy="3672000"/>
                  </a:xfrm>
                  <a:prstGeom prst="rect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3" name="Содержимое 2"/>
          <p:cNvSpPr/>
          <p:nvPr/>
        </p:nvSpPr>
        <p:spPr>
          <a:xfrm>
            <a:off x="71280" y="5013360"/>
            <a:ext cx="3637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ТюменНИИгипрогаз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Тюм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4" name="Object 432"/>
          <p:cNvGraphicFramePr/>
          <p:nvPr/>
        </p:nvGraphicFramePr>
        <p:xfrm>
          <a:off x="3924360" y="1916280"/>
          <a:ext cx="3917880" cy="40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Object 4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916280"/>
                    <a:ext cx="3917880" cy="4090680"/>
                  </a:xfrm>
                  <a:prstGeom prst="rect">
                    <a:avLst/>
                  </a:prstGeom>
                  <a:ln w="1908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6" name="Object 433"/>
          <p:cNvGraphicFramePr/>
          <p:nvPr/>
        </p:nvGraphicFramePr>
        <p:xfrm>
          <a:off x="5727600" y="3208320"/>
          <a:ext cx="3381480" cy="353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7" name="Object 4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7600" y="3208320"/>
                    <a:ext cx="3381480" cy="35337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B23C-CBB3-4109-9D89-8CB8861C44D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4" descr="_Pict"/>
          <p:cNvPicPr/>
          <p:nvPr/>
        </p:nvPicPr>
        <p:blipFill>
          <a:blip r:embed="rId1"/>
          <a:stretch/>
        </p:blipFill>
        <p:spPr>
          <a:xfrm>
            <a:off x="20520" y="2276640"/>
            <a:ext cx="9123480" cy="4032000"/>
          </a:xfrm>
          <a:prstGeom prst="rect">
            <a:avLst/>
          </a:prstGeom>
          <a:ln w="0">
            <a:noFill/>
          </a:ln>
        </p:spPr>
      </p:pic>
      <p:sp>
        <p:nvSpPr>
          <p:cNvPr id="1261" name="Содержимое 2"/>
          <p:cNvSpPr/>
          <p:nvPr/>
        </p:nvSpPr>
        <p:spPr>
          <a:xfrm>
            <a:off x="71280" y="1365120"/>
            <a:ext cx="90727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кторская документация в состав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98C8-8922-479A-BA78-C1A6B946F59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41160" y="333360"/>
            <a:ext cx="7388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омпоненты решения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L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9"/>
          <p:cNvGrpSpPr/>
          <p:nvPr/>
        </p:nvGrpSpPr>
        <p:grpSpPr>
          <a:xfrm>
            <a:off x="1194480" y="1125360"/>
            <a:ext cx="7786440" cy="5399280"/>
            <a:chOff x="1194480" y="1125360"/>
            <a:chExt cx="7786440" cy="5399280"/>
          </a:xfrm>
        </p:grpSpPr>
        <p:grpSp>
          <p:nvGrpSpPr>
            <p:cNvPr id="1097" name="Group 38"/>
            <p:cNvGrpSpPr/>
            <p:nvPr/>
          </p:nvGrpSpPr>
          <p:grpSpPr>
            <a:xfrm>
              <a:off x="1194480" y="1125360"/>
              <a:ext cx="7786440" cy="5399280"/>
              <a:chOff x="1194480" y="1125360"/>
              <a:chExt cx="7786440" cy="5399280"/>
            </a:xfrm>
          </p:grpSpPr>
          <p:sp>
            <p:nvSpPr>
              <p:cNvPr id="1098" name="AutoShape 5"/>
              <p:cNvSpPr/>
              <p:nvPr/>
            </p:nvSpPr>
            <p:spPr>
              <a:xfrm>
                <a:off x="1908000" y="1125360"/>
                <a:ext cx="5328000" cy="5399280"/>
              </a:xfrm>
              <a:prstGeom prst="pi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99" name="Group 6"/>
              <p:cNvGrpSpPr/>
              <p:nvPr/>
            </p:nvGrpSpPr>
            <p:grpSpPr>
              <a:xfrm>
                <a:off x="1194480" y="1219320"/>
                <a:ext cx="6546240" cy="5105160"/>
                <a:chOff x="1194480" y="1219320"/>
                <a:chExt cx="6546240" cy="510516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76720" y="3429000"/>
                  <a:ext cx="4530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ffffff"/>
                      </a:solidFill>
                      <a:latin typeface="Calibri"/>
                    </a:rPr>
                    <a:t>PLM – Product Lifecycle Management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AutoShape 10"/>
                <p:cNvSpPr/>
                <p:nvPr/>
              </p:nvSpPr>
              <p:spPr>
                <a:xfrm>
                  <a:off x="2025720" y="1219320"/>
                  <a:ext cx="5105160" cy="51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Freeform 11"/>
                <p:cNvSpPr/>
                <p:nvPr/>
              </p:nvSpPr>
              <p:spPr>
                <a:xfrm>
                  <a:off x="2168640" y="1325520"/>
                  <a:ext cx="4811760" cy="4917960"/>
                </a:xfrm>
                <a:prstGeom prst="pie">
                  <a:avLst/>
                </a:prstGeom>
                <a:solidFill>
                  <a:srgbClr val="75c5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Freeform 12"/>
                <p:cNvSpPr/>
                <p:nvPr/>
              </p:nvSpPr>
              <p:spPr>
                <a:xfrm>
                  <a:off x="2168640" y="1325520"/>
                  <a:ext cx="4811760" cy="49179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Freeform 14"/>
                <p:cNvSpPr/>
                <p:nvPr/>
              </p:nvSpPr>
              <p:spPr>
                <a:xfrm>
                  <a:off x="2513160" y="1676520"/>
                  <a:ext cx="4124160" cy="4216320"/>
                </a:xfrm>
                <a:prstGeom prst="pie">
                  <a:avLst/>
                </a:prstGeom>
                <a:solidFill>
                  <a:srgbClr val="0092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Freeform 15"/>
                <p:cNvSpPr/>
                <p:nvPr/>
              </p:nvSpPr>
              <p:spPr>
                <a:xfrm>
                  <a:off x="2513160" y="1676520"/>
                  <a:ext cx="4124160" cy="421632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Freeform 16"/>
                <p:cNvSpPr/>
                <p:nvPr/>
              </p:nvSpPr>
              <p:spPr>
                <a:xfrm>
                  <a:off x="2168640" y="1325520"/>
                  <a:ext cx="2406600" cy="2459160"/>
                </a:xfrm>
                <a:prstGeom prst="pie">
                  <a:avLst/>
                </a:prstGeom>
                <a:solidFill>
                  <a:srgbClr val="e77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7" name="Freeform 17"/>
                <p:cNvSpPr/>
                <p:nvPr/>
              </p:nvSpPr>
              <p:spPr>
                <a:xfrm>
                  <a:off x="2168640" y="1325520"/>
                  <a:ext cx="2406600" cy="2459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8" name="Freeform 18"/>
                <p:cNvSpPr/>
                <p:nvPr/>
              </p:nvSpPr>
              <p:spPr>
                <a:xfrm>
                  <a:off x="2513160" y="3784680"/>
                  <a:ext cx="2062080" cy="2108160"/>
                </a:xfrm>
                <a:prstGeom prst="pie">
                  <a:avLst/>
                </a:prstGeom>
                <a:solidFill>
                  <a:srgbClr val="009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9" name="Freeform 19"/>
                <p:cNvSpPr/>
                <p:nvPr/>
              </p:nvSpPr>
              <p:spPr>
                <a:xfrm>
                  <a:off x="2513160" y="3784680"/>
                  <a:ext cx="2062080" cy="2108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0" name="Freeform 20"/>
                <p:cNvSpPr/>
                <p:nvPr/>
              </p:nvSpPr>
              <p:spPr>
                <a:xfrm>
                  <a:off x="4575240" y="1676520"/>
                  <a:ext cx="2062080" cy="2108160"/>
                </a:xfrm>
                <a:prstGeom prst="pie">
                  <a:avLst/>
                </a:prstGeom>
                <a:solidFill>
                  <a:srgbClr val="da25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1" name="Freeform 21"/>
                <p:cNvSpPr/>
                <p:nvPr/>
              </p:nvSpPr>
              <p:spPr>
                <a:xfrm>
                  <a:off x="4575240" y="1676520"/>
                  <a:ext cx="2062080" cy="2108160"/>
                </a:xfrm>
                <a:prstGeom prst="pie">
                  <a:avLst/>
                </a:prstGeom>
                <a:noFill/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2" name="Rectangle 22"/>
                <p:cNvSpPr/>
                <p:nvPr/>
              </p:nvSpPr>
              <p:spPr>
                <a:xfrm>
                  <a:off x="2484360" y="2813040"/>
                  <a:ext cx="198288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29166f"/>
                      </a:solidFill>
                      <a:latin typeface="Arial"/>
                    </a:rPr>
                    <a:t>Управление предприятием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3" name="Rectangle 25"/>
                <p:cNvSpPr/>
                <p:nvPr/>
              </p:nvSpPr>
              <p:spPr>
                <a:xfrm>
                  <a:off x="4726080" y="2813040"/>
                  <a:ext cx="15336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9240"/>
                      </a:solidFill>
                      <a:latin typeface="Arial"/>
                    </a:rPr>
                    <a:t>Документооборот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4" name="Rectangle 27"/>
                <p:cNvSpPr/>
                <p:nvPr/>
              </p:nvSpPr>
              <p:spPr>
                <a:xfrm>
                  <a:off x="2627280" y="4037040"/>
                  <a:ext cx="19130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Электронный архив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5" name="Rectangle 30"/>
                <p:cNvSpPr/>
                <p:nvPr/>
              </p:nvSpPr>
              <p:spPr>
                <a:xfrm>
                  <a:off x="4726080" y="4037040"/>
                  <a:ext cx="153360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fff500"/>
                      </a:solidFill>
                      <a:latin typeface="Arial"/>
                    </a:rPr>
                    <a:t>Управление данными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116" name="Picture 3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883120" y="4894200"/>
                  <a:ext cx="1857600" cy="1427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Picture 3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19280" y="4935600"/>
                  <a:ext cx="1876320" cy="138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Picture 34" descr="sna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55920" y="1504800"/>
                  <a:ext cx="2519280" cy="814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Picture 35" descr="snap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00720" y="1474920"/>
                  <a:ext cx="2232000" cy="127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0" name="Text Box 8"/>
                <p:cNvSpPr/>
                <p:nvPr/>
              </p:nvSpPr>
              <p:spPr>
                <a:xfrm>
                  <a:off x="1194480" y="2422440"/>
                  <a:ext cx="147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c000"/>
                      </a:solidFill>
                      <a:latin typeface="Calibri"/>
                    </a:rPr>
                    <a:t>Lotsia ERP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1" name="Text Box 36"/>
              <p:cNvSpPr/>
              <p:nvPr/>
            </p:nvSpPr>
            <p:spPr>
              <a:xfrm>
                <a:off x="7389000" y="3068640"/>
                <a:ext cx="159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000"/>
                    </a:solidFill>
                    <a:latin typeface="Calibri"/>
                  </a:rPr>
                  <a:t>Lotsia WEB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2" name="Text Box 37"/>
            <p:cNvSpPr/>
            <p:nvPr/>
          </p:nvSpPr>
          <p:spPr>
            <a:xfrm>
              <a:off x="2289240" y="3429000"/>
              <a:ext cx="453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Calibri"/>
                </a:rPr>
                <a:t>PLM – Product Lifecycle Management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3" name="Text Box 36"/>
          <p:cNvSpPr/>
          <p:nvPr/>
        </p:nvSpPr>
        <p:spPr>
          <a:xfrm>
            <a:off x="3584520" y="580716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506-2BB6-4E02-8BA4-14029FB8A00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5" name="Picture 2" descr=""/>
          <p:cNvPicPr/>
          <p:nvPr/>
        </p:nvPicPr>
        <p:blipFill>
          <a:blip r:embed="rId1"/>
          <a:stretch/>
        </p:blipFill>
        <p:spPr>
          <a:xfrm>
            <a:off x="95400" y="2467080"/>
            <a:ext cx="8951760" cy="3914640"/>
          </a:xfrm>
          <a:prstGeom prst="rect">
            <a:avLst/>
          </a:prstGeom>
          <a:ln w="0">
            <a:noFill/>
          </a:ln>
        </p:spPr>
      </p:pic>
      <p:sp>
        <p:nvSpPr>
          <p:cNvPr id="1266" name="Содержимое 2"/>
          <p:cNvSpPr/>
          <p:nvPr/>
        </p:nvSpPr>
        <p:spPr>
          <a:xfrm>
            <a:off x="66600" y="1484280"/>
            <a:ext cx="898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авление раздела в состав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C2D-B355-4ED6-BCC0-61F6E4F3768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1" descr=""/>
          <p:cNvPicPr/>
          <p:nvPr/>
        </p:nvPicPr>
        <p:blipFill>
          <a:blip r:embed="rId1"/>
          <a:stretch/>
        </p:blipFill>
        <p:spPr>
          <a:xfrm>
            <a:off x="1166760" y="1011240"/>
            <a:ext cx="7986600" cy="5824440"/>
          </a:xfrm>
          <a:prstGeom prst="rect">
            <a:avLst/>
          </a:prstGeom>
          <a:ln w="0">
            <a:noFill/>
          </a:ln>
        </p:spPr>
      </p:pic>
      <p:sp>
        <p:nvSpPr>
          <p:cNvPr id="1269" name="Содержимое 2"/>
          <p:cNvSpPr/>
          <p:nvPr/>
        </p:nvSpPr>
        <p:spPr>
          <a:xfrm>
            <a:off x="1403280" y="3165480"/>
            <a:ext cx="338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кетное формирование состава проекта, в том числе с использованием шабл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Соста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E34-BF61-41B9-AAA4-3FDBA9BDF33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34560" y="1427040"/>
            <a:ext cx="91090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ворная документация может одноврем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ться как в разрезе проектов (например, в составе дела проекта),  так и в отдельной виртуальной папке, предназначенной для сотрудников договорной служ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аются задачи учёта договоров и договорной документации, в т.ч. по договорам субподряда, защищённого хранения файлов документов и их версий, согласования договорных документов с различными службами (сбор виз и замечаний), учёта незавершенного производства и другие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B5B-FAA2-421B-88A8-A34B1E5F48C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301-093E-444F-A52C-1764984E627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7" name="Picture 14" descr="snap"/>
          <p:cNvPicPr/>
          <p:nvPr/>
        </p:nvPicPr>
        <p:blipFill>
          <a:blip r:embed="rId1"/>
          <a:stretch/>
        </p:blipFill>
        <p:spPr>
          <a:xfrm>
            <a:off x="-4680" y="1197000"/>
            <a:ext cx="3752640" cy="5646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78" name="Picture 18" descr="snap"/>
          <p:cNvPicPr/>
          <p:nvPr/>
        </p:nvPicPr>
        <p:blipFill>
          <a:blip r:embed="rId2"/>
          <a:stretch/>
        </p:blipFill>
        <p:spPr>
          <a:xfrm>
            <a:off x="2268360" y="2505240"/>
            <a:ext cx="4032360" cy="4281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79" name="Picture 2" descr=""/>
          <p:cNvPicPr/>
          <p:nvPr/>
        </p:nvPicPr>
        <p:blipFill>
          <a:blip r:embed="rId3"/>
          <a:stretch/>
        </p:blipFill>
        <p:spPr>
          <a:xfrm>
            <a:off x="4356000" y="4105440"/>
            <a:ext cx="4537080" cy="268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280" name="Содержимое 2"/>
          <p:cNvSpPr/>
          <p:nvPr/>
        </p:nvSpPr>
        <p:spPr>
          <a:xfrm>
            <a:off x="2340000" y="134136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синжпроек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Скругленный прямоугольник 3"/>
          <p:cNvSpPr/>
          <p:nvPr/>
        </p:nvSpPr>
        <p:spPr>
          <a:xfrm>
            <a:off x="108000" y="1413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6566040" y="5987880"/>
            <a:ext cx="275904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ЗИ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Скругленный прямоугольник 14"/>
          <p:cNvSpPr/>
          <p:nvPr/>
        </p:nvSpPr>
        <p:spPr>
          <a:xfrm>
            <a:off x="2484360" y="2708280"/>
            <a:ext cx="2735280" cy="79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4"/>
          <a:stretch/>
        </p:blipFill>
        <p:spPr>
          <a:xfrm>
            <a:off x="5511960" y="1395360"/>
            <a:ext cx="3632040" cy="2710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285" name="Скругленный прямоугольник 16"/>
          <p:cNvSpPr/>
          <p:nvPr/>
        </p:nvSpPr>
        <p:spPr>
          <a:xfrm>
            <a:off x="5651640" y="1628640"/>
            <a:ext cx="3384360" cy="187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484-FA0A-49A8-95EE-F24F6F2A768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Содержимое 2"/>
          <p:cNvSpPr/>
          <p:nvPr/>
        </p:nvSpPr>
        <p:spPr>
          <a:xfrm>
            <a:off x="179280" y="1268280"/>
            <a:ext cx="8856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ёт незавершенного производства, пример карточки договора. Мосинжпроект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9" name="Picture 14" descr="C:\Common\Снимок6.jpg"/>
          <p:cNvPicPr/>
          <p:nvPr/>
        </p:nvPicPr>
        <p:blipFill>
          <a:blip r:embed="rId1"/>
          <a:stretch/>
        </p:blipFill>
        <p:spPr>
          <a:xfrm>
            <a:off x="22320" y="2070000"/>
            <a:ext cx="8820000" cy="47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DC31-8F38-4A5E-82D6-80061033345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Содержимое 2"/>
          <p:cNvSpPr/>
          <p:nvPr/>
        </p:nvSpPr>
        <p:spPr>
          <a:xfrm>
            <a:off x="3492360" y="1433520"/>
            <a:ext cx="56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ёт незавершенного производства, Мосинжпроект, г. Моск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структуры хранения докум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2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3411720" cy="6843960"/>
          </a:xfrm>
          <a:prstGeom prst="rect">
            <a:avLst/>
          </a:prstGeom>
          <a:ln w="0">
            <a:noFill/>
          </a:ln>
        </p:spPr>
      </p:pic>
      <p:cxnSp>
        <p:nvCxnSpPr>
          <p:cNvPr id="1294" name="Прямая со стрелкой 7"/>
          <p:cNvCxnSpPr/>
          <p:nvPr/>
        </p:nvCxnSpPr>
        <p:spPr>
          <a:xfrm flipH="1" flipV="1">
            <a:off x="1258560" y="475920"/>
            <a:ext cx="2953440" cy="2666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5" name="Содержимое 2"/>
          <p:cNvSpPr/>
          <p:nvPr/>
        </p:nvSpPr>
        <p:spPr>
          <a:xfrm>
            <a:off x="4067280" y="2924280"/>
            <a:ext cx="4465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говоры и доп.согла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ендарны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ументы опл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бподрядные догов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6" name="Прямая со стрелкой 16"/>
          <p:cNvCxnSpPr/>
          <p:nvPr/>
        </p:nvCxnSpPr>
        <p:spPr>
          <a:xfrm flipH="1" flipV="1">
            <a:off x="1177200" y="826200"/>
            <a:ext cx="302508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7" name="Прямая со стрелкой 28"/>
          <p:cNvCxnSpPr/>
          <p:nvPr/>
        </p:nvCxnSpPr>
        <p:spPr>
          <a:xfrm flipH="1" flipV="1">
            <a:off x="1523520" y="1690200"/>
            <a:ext cx="2666160" cy="230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8" name="Прямая со стрелкой 34"/>
          <p:cNvCxnSpPr/>
          <p:nvPr/>
        </p:nvCxnSpPr>
        <p:spPr>
          <a:xfrm flipH="1">
            <a:off x="1658520" y="4470480"/>
            <a:ext cx="252504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9" name="Прямая со стрелкой 40"/>
          <p:cNvCxnSpPr/>
          <p:nvPr/>
        </p:nvCxnSpPr>
        <p:spPr>
          <a:xfrm flipH="1">
            <a:off x="1226880" y="4913280"/>
            <a:ext cx="2946960" cy="714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0" name="Прямая со стрелкой 42"/>
          <p:cNvCxnSpPr/>
          <p:nvPr/>
        </p:nvCxnSpPr>
        <p:spPr>
          <a:xfrm flipH="1">
            <a:off x="1397160" y="5354640"/>
            <a:ext cx="2776680" cy="64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6600" y="155700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е создание комплектов договорны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Picture 14" descr=""/>
          <p:cNvPicPr/>
          <p:nvPr/>
        </p:nvPicPr>
        <p:blipFill>
          <a:blip r:embed="rId1"/>
          <a:stretch/>
        </p:blipFill>
        <p:spPr>
          <a:xfrm>
            <a:off x="34920" y="2806560"/>
            <a:ext cx="5041800" cy="35751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5" descr=""/>
          <p:cNvPicPr/>
          <p:nvPr/>
        </p:nvPicPr>
        <p:blipFill>
          <a:blip r:embed="rId2"/>
          <a:stretch/>
        </p:blipFill>
        <p:spPr>
          <a:xfrm>
            <a:off x="4284720" y="2071800"/>
            <a:ext cx="4859280" cy="3444840"/>
          </a:xfrm>
          <a:prstGeom prst="rect">
            <a:avLst/>
          </a:prstGeom>
          <a:ln w="0">
            <a:noFill/>
          </a:ln>
        </p:spPr>
      </p:pic>
      <p:sp>
        <p:nvSpPr>
          <p:cNvPr id="1304" name="Стрелка вниз 3"/>
          <p:cNvSpPr/>
          <p:nvPr/>
        </p:nvSpPr>
        <p:spPr>
          <a:xfrm rot="1369200">
            <a:off x="2292120" y="2028960"/>
            <a:ext cx="484200" cy="3198600"/>
          </a:xfrm>
          <a:prstGeom prst="downArrow">
            <a:avLst>
              <a:gd name="adj1" fmla="val 50000"/>
              <a:gd name="adj2" fmla="val 50003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Стрелка вниз 12"/>
          <p:cNvSpPr/>
          <p:nvPr/>
        </p:nvSpPr>
        <p:spPr>
          <a:xfrm rot="19944000">
            <a:off x="3886200" y="2034720"/>
            <a:ext cx="484200" cy="2497320"/>
          </a:xfrm>
          <a:prstGeom prst="downArrow">
            <a:avLst>
              <a:gd name="adj1" fmla="val 50000"/>
              <a:gd name="adj2" fmla="val 49976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3DA-16D2-465E-B88D-CD48B3618142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Содержимое 2"/>
          <p:cNvSpPr/>
          <p:nvPr/>
        </p:nvSpPr>
        <p:spPr>
          <a:xfrm>
            <a:off x="22320" y="1312920"/>
            <a:ext cx="9107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ёты, сформированные с помощью встроенного генератора отчётов Lotsia PDM Pl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B0D-C743-4A71-B8A0-D0D1B72797E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Picture 19" descr="C:\Common\Снимок4.jpg"/>
          <p:cNvPicPr/>
          <p:nvPr/>
        </p:nvPicPr>
        <p:blipFill>
          <a:blip r:embed="rId1"/>
          <a:stretch/>
        </p:blipFill>
        <p:spPr>
          <a:xfrm>
            <a:off x="2538360" y="2128680"/>
            <a:ext cx="6594480" cy="4699080"/>
          </a:xfrm>
          <a:prstGeom prst="rect">
            <a:avLst/>
          </a:prstGeom>
          <a:ln w="0">
            <a:noFill/>
          </a:ln>
        </p:spPr>
      </p:pic>
      <p:sp>
        <p:nvSpPr>
          <p:cNvPr id="1311" name="Содержимое 2"/>
          <p:cNvSpPr/>
          <p:nvPr/>
        </p:nvSpPr>
        <p:spPr>
          <a:xfrm>
            <a:off x="0" y="2205000"/>
            <a:ext cx="25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отчета «Состояние подготовки договор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Номер слайда 4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805-5229-4952-9388-C40CF84E3BF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Содержимое 2"/>
          <p:cNvSpPr/>
          <p:nvPr/>
        </p:nvSpPr>
        <p:spPr>
          <a:xfrm>
            <a:off x="108000" y="1573200"/>
            <a:ext cx="8856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тический план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юменНИИгипрогаз, г. Тюмен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5" name="Picture 13" descr="D:\докоборот\презентация\ГИПРО -2005\темплан.jpg"/>
          <p:cNvPicPr/>
          <p:nvPr/>
        </p:nvPicPr>
        <p:blipFill>
          <a:blip r:embed="rId1"/>
          <a:stretch/>
        </p:blipFill>
        <p:spPr>
          <a:xfrm>
            <a:off x="34920" y="2852640"/>
            <a:ext cx="9093240" cy="295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оговор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259-7FB4-4C88-8CBD-4C7E2590B1E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7560" y="1317240"/>
            <a:ext cx="91090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ы-графики могут формироваться вручную,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портом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я с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спечивает актуализацию плана-графика «на лет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е с планами-графиками автоматически создаются задания, которые нужно будет выда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актике, длительность процесса выдачи заданий при использовании функциональности документообор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нижается в ра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ические даты выдачи заданий фиксируются автоматически, что значительно упрощает диспетчер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 временем исчезает бумажный документооборот по задан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еимущества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на на самостоятельное внед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бкость, переносимость и масштабируе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анение тел документов на защищенных файл-серве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висима от САПР, но интегрирована с ни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я с наиболее популярными офисными прилож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й почтовый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ость для собственных разраб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ысокая стоимость внедрения и 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ьно работающее 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рын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D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истем с 1997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3407-511B-4F95-AB29-16CA28ADCAD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5EA-61E5-473D-A569-03E473AB204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17280" y="1413000"/>
            <a:ext cx="912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хронизация плана-графика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Picture 3" descr=""/>
          <p:cNvPicPr/>
          <p:nvPr/>
        </p:nvPicPr>
        <p:blipFill>
          <a:blip r:embed="rId1"/>
          <a:stretch/>
        </p:blipFill>
        <p:spPr>
          <a:xfrm>
            <a:off x="17640" y="2830680"/>
            <a:ext cx="6484680" cy="448596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5" descr=""/>
          <p:cNvPicPr/>
          <p:nvPr/>
        </p:nvPicPr>
        <p:blipFill>
          <a:blip r:embed="rId2"/>
          <a:stretch/>
        </p:blipFill>
        <p:spPr>
          <a:xfrm>
            <a:off x="2058840" y="1879560"/>
            <a:ext cx="7085160" cy="3349800"/>
          </a:xfrm>
          <a:prstGeom prst="rect">
            <a:avLst/>
          </a:prstGeom>
          <a:ln w="0">
            <a:noFill/>
          </a:ln>
        </p:spPr>
      </p:pic>
      <p:cxnSp>
        <p:nvCxnSpPr>
          <p:cNvPr id="1325" name="Прямая со стрелкой 8"/>
          <p:cNvCxnSpPr/>
          <p:nvPr/>
        </p:nvCxnSpPr>
        <p:spPr>
          <a:xfrm flipH="1">
            <a:off x="2339640" y="3553920"/>
            <a:ext cx="653040" cy="1980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26" name="Скругленный прямоугольник 4"/>
          <p:cNvSpPr/>
          <p:nvPr/>
        </p:nvSpPr>
        <p:spPr>
          <a:xfrm>
            <a:off x="2992320" y="2565360"/>
            <a:ext cx="3510000" cy="21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Скругленный прямоугольник 12"/>
          <p:cNvSpPr/>
          <p:nvPr/>
        </p:nvSpPr>
        <p:spPr>
          <a:xfrm>
            <a:off x="755640" y="5533920"/>
            <a:ext cx="5040360" cy="131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56E-CE60-4E80-9F5F-834070AC342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12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матическая генерация заданий по плану-граф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1" name="Picture 3" descr=""/>
          <p:cNvPicPr/>
          <p:nvPr/>
        </p:nvPicPr>
        <p:blipFill>
          <a:blip r:embed="rId1"/>
          <a:stretch/>
        </p:blipFill>
        <p:spPr>
          <a:xfrm>
            <a:off x="568440" y="1833480"/>
            <a:ext cx="7891200" cy="49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2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40520" cy="5218200"/>
          </a:xfrm>
          <a:prstGeom prst="rect">
            <a:avLst/>
          </a:prstGeom>
          <a:ln w="0">
            <a:noFill/>
          </a:ln>
        </p:spPr>
      </p:pic>
      <p:sp>
        <p:nvSpPr>
          <p:cNvPr id="13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594-5B13-4E11-8177-350388AFCFC2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инятие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5" name="Подзаголовок 1"/>
          <p:cNvGrpSpPr/>
          <p:nvPr/>
        </p:nvGrpSpPr>
        <p:grpSpPr>
          <a:xfrm>
            <a:off x="1206360" y="4475160"/>
            <a:ext cx="6705720" cy="1760400"/>
            <a:chOff x="1206360" y="4475160"/>
            <a:chExt cx="6705720" cy="1760400"/>
          </a:xfrm>
        </p:grpSpPr>
        <p:pic>
          <p:nvPicPr>
            <p:cNvPr id="1336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1206360" y="4475160"/>
              <a:ext cx="670572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1222200" y="4495680"/>
              <a:ext cx="668052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ак и в традиционном документообороте, задания могут приниматься с замечаниями или не приниматьс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Роль диспетчера может претерпеть измен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25527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каждом этапе настраиваемые ролевые формы с предпросмот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9" name="Picture 6" descr="C:\Common\Снимок6.jpg"/>
          <p:cNvPicPr/>
          <p:nvPr/>
        </p:nvPicPr>
        <p:blipFill>
          <a:blip r:embed="rId1"/>
          <a:stretch/>
        </p:blipFill>
        <p:spPr>
          <a:xfrm>
            <a:off x="2552760" y="1414440"/>
            <a:ext cx="6600600" cy="5402160"/>
          </a:xfrm>
          <a:prstGeom prst="rect">
            <a:avLst/>
          </a:prstGeom>
          <a:ln w="0">
            <a:noFill/>
          </a:ln>
        </p:spPr>
      </p:pic>
      <p:sp>
        <p:nvSpPr>
          <p:cNvPr id="134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инятие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1EEC-E0D4-418A-8107-0254E7C0B46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DAD-EE89-474C-AA79-C6D28358642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448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карточки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полнение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5" name="Picture 3" descr=""/>
          <p:cNvPicPr/>
          <p:nvPr/>
        </p:nvPicPr>
        <p:blipFill>
          <a:blip r:embed="rId1"/>
          <a:stretch/>
        </p:blipFill>
        <p:spPr>
          <a:xfrm>
            <a:off x="1227240" y="4221000"/>
            <a:ext cx="7916760" cy="222732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2" descr=""/>
          <p:cNvPicPr/>
          <p:nvPr/>
        </p:nvPicPr>
        <p:blipFill>
          <a:blip r:embed="rId2"/>
          <a:stretch/>
        </p:blipFill>
        <p:spPr>
          <a:xfrm>
            <a:off x="7920" y="1844640"/>
            <a:ext cx="6004080" cy="2630520"/>
          </a:xfrm>
          <a:prstGeom prst="rect">
            <a:avLst/>
          </a:prstGeom>
          <a:ln w="0">
            <a:noFill/>
          </a:ln>
        </p:spPr>
      </p:pic>
      <p:grpSp>
        <p:nvGrpSpPr>
          <p:cNvPr id="1347" name="Подзаголовок 1"/>
          <p:cNvGrpSpPr/>
          <p:nvPr/>
        </p:nvGrpSpPr>
        <p:grpSpPr>
          <a:xfrm>
            <a:off x="4700520" y="5870520"/>
            <a:ext cx="4383000" cy="536760"/>
            <a:chOff x="4700520" y="5870520"/>
            <a:chExt cx="4383000" cy="536760"/>
          </a:xfrm>
        </p:grpSpPr>
        <p:pic>
          <p:nvPicPr>
            <p:cNvPr id="1348" name="Подзаголовок 1" descr=""/>
            <p:cNvPicPr/>
            <p:nvPr/>
          </p:nvPicPr>
          <p:blipFill>
            <a:blip r:embed="rId3"/>
            <a:stretch/>
          </p:blipFill>
          <p:spPr>
            <a:xfrm>
              <a:off x="4700520" y="5870520"/>
              <a:ext cx="4383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4716360" y="5891040"/>
              <a:ext cx="435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История принятия зад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0" name="Подзаголовок 1"/>
          <p:cNvSpPr/>
          <p:nvPr/>
        </p:nvSpPr>
        <p:spPr>
          <a:xfrm>
            <a:off x="6012000" y="2670120"/>
            <a:ext cx="30607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ические даты проставляются авто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Скругленный прямоугольник 9"/>
          <p:cNvSpPr/>
          <p:nvPr/>
        </p:nvSpPr>
        <p:spPr>
          <a:xfrm>
            <a:off x="3406680" y="4005360"/>
            <a:ext cx="244800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2" name="Прямая со стрелкой 10"/>
          <p:cNvCxnSpPr/>
          <p:nvPr/>
        </p:nvCxnSpPr>
        <p:spPr>
          <a:xfrm flipH="1">
            <a:off x="5854320" y="4005000"/>
            <a:ext cx="1310400" cy="14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38E-03D0-4330-82A3-BAAB6E9D3E6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01836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троенный генератор отчётов позволяет получать различные формы планов-граф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мотр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6" name="Picture 3" descr=""/>
          <p:cNvPicPr/>
          <p:nvPr/>
        </p:nvPicPr>
        <p:blipFill>
          <a:blip r:embed="rId1"/>
          <a:stretch/>
        </p:blipFill>
        <p:spPr>
          <a:xfrm>
            <a:off x="-4680" y="2416320"/>
            <a:ext cx="91533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175-7975-4948-ADD9-5DCF1554565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17640" y="1353960"/>
            <a:ext cx="844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лана-графика ТюменНИИгипрогаз, г. Тюм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росмотр плана-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0" name="Picture 9" descr=""/>
          <p:cNvPicPr/>
          <p:nvPr/>
        </p:nvPicPr>
        <p:blipFill>
          <a:blip r:embed="rId1"/>
          <a:stretch/>
        </p:blipFill>
        <p:spPr>
          <a:xfrm>
            <a:off x="22320" y="1930320"/>
            <a:ext cx="91072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EE7-9FE9-41D1-9860-DE454E41E4B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вод докум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0" y="1353600"/>
            <a:ext cx="91440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подхода к организации ввода документ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умент рождается в сист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ки: множество промежуточных вариантов документов, требуется проработка системы хранения «черновиков», требуется контроль соответствия электронной и бумажной версий доку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имущества: отслеживается жизненный цикл документа, повышается степень контроля за работой исполн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истему вводятся утвержден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ки: не отслеживается история доку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имущества: «ничего лишнего», проще реализовать, дополнительная нагрузка перекладывается с исполнителей на сотрудников архива или отдела выпуска, или операторов в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3672-12A5-4776-93B1-7B8AA21B5CB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вод докум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Picture 3" descr=""/>
          <p:cNvPicPr/>
          <p:nvPr/>
        </p:nvPicPr>
        <p:blipFill>
          <a:blip r:embed="rId1"/>
          <a:stretch/>
        </p:blipFill>
        <p:spPr>
          <a:xfrm>
            <a:off x="7920" y="1906560"/>
            <a:ext cx="7156440" cy="4907160"/>
          </a:xfrm>
          <a:prstGeom prst="rect">
            <a:avLst/>
          </a:prstGeom>
          <a:ln w="0">
            <a:noFill/>
          </a:ln>
        </p:spPr>
      </p:pic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17280" y="1353600"/>
            <a:ext cx="9126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ельно простые формы ввода - минимиз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Подзаголовок 1"/>
          <p:cNvSpPr/>
          <p:nvPr/>
        </p:nvSpPr>
        <p:spPr>
          <a:xfrm>
            <a:off x="6300720" y="1700280"/>
            <a:ext cx="2843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полнительной нагрузки на исполн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кетный ввод – для сотрудников арх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Скругленный прямоугольник 8"/>
          <p:cNvSpPr/>
          <p:nvPr/>
        </p:nvSpPr>
        <p:spPr>
          <a:xfrm>
            <a:off x="4249800" y="2303640"/>
            <a:ext cx="16858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0" name="Прямая со стрелкой 9"/>
          <p:cNvCxnSpPr/>
          <p:nvPr/>
        </p:nvCxnSpPr>
        <p:spPr>
          <a:xfrm flipH="1">
            <a:off x="3131280" y="2664000"/>
            <a:ext cx="1972440" cy="910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20F8-5C23-4CE5-827C-C3AA6BE636B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оиск документов и про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17280" y="1371600"/>
            <a:ext cx="91263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рибутивный (по любым критериям) и полнотекстовый по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ображение найденной информации в удоб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го ищем? Найденное мо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мотреть, отредактировать, напечат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аимствовать (использовать «как есть» в других мест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олько состав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пир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ради возможнос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пирова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нится сильнее всего, поскольку избавляет пользователей от рутинных операций по повторной разработке доку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 поиска зависят от прав доступа пользовател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4" name="Правая фигурная скобка 1"/>
          <p:cNvGrpSpPr/>
          <p:nvPr/>
        </p:nvGrpSpPr>
        <p:grpSpPr>
          <a:xfrm>
            <a:off x="5126040" y="3657600"/>
            <a:ext cx="379440" cy="1200240"/>
            <a:chOff x="5126040" y="3657600"/>
            <a:chExt cx="379440" cy="1200240"/>
          </a:xfrm>
        </p:grpSpPr>
        <p:pic>
          <p:nvPicPr>
            <p:cNvPr id="1375" name="Правая фигурная скобка 1" descr=""/>
            <p:cNvPicPr/>
            <p:nvPr/>
          </p:nvPicPr>
          <p:blipFill>
            <a:blip r:embed="rId1"/>
            <a:stretch/>
          </p:blipFill>
          <p:spPr>
            <a:xfrm>
              <a:off x="5126040" y="3657600"/>
              <a:ext cx="3794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5148360" y="3699000"/>
              <a:ext cx="7596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7" name="Подзаголовок 1"/>
          <p:cNvGrpSpPr/>
          <p:nvPr/>
        </p:nvGrpSpPr>
        <p:grpSpPr>
          <a:xfrm>
            <a:off x="5559480" y="3676680"/>
            <a:ext cx="3346560" cy="1163520"/>
            <a:chOff x="5559480" y="3676680"/>
            <a:chExt cx="3346560" cy="1163520"/>
          </a:xfrm>
        </p:grpSpPr>
        <p:pic>
          <p:nvPicPr>
            <p:cNvPr id="1378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5559480" y="3676680"/>
              <a:ext cx="33465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5580000" y="3693960"/>
              <a:ext cx="331308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Можно отследить источник копирова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реимущества </a:t>
            </a: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90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рокий спектр решаемых задач в одной систем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шиностроение и приборостро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конфигурациями издел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провождение жизненного цикла изделий и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ческий документообо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совещ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эксплуатацией и ремон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отказ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промышленной без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иму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управление отношениями с клиент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поративные рассылки (дни рождений, памятные даты, голосования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D9A-B773-432D-937A-339594418F2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опирование нарабо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28080" y="1501920"/>
            <a:ext cx="89362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копирования и заимствования наработо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т рабочее время и избавляет от рутинных опер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2" name="Группа 2"/>
          <p:cNvGrpSpPr/>
          <p:nvPr/>
        </p:nvGrpSpPr>
        <p:grpSpPr>
          <a:xfrm>
            <a:off x="7920" y="2465280"/>
            <a:ext cx="9144000" cy="4357800"/>
            <a:chOff x="7920" y="2465280"/>
            <a:chExt cx="9144000" cy="4357800"/>
          </a:xfrm>
        </p:grpSpPr>
        <p:pic>
          <p:nvPicPr>
            <p:cNvPr id="1383" name="Рисунок 14" descr="Snap1.jpg"/>
            <p:cNvPicPr/>
            <p:nvPr/>
          </p:nvPicPr>
          <p:blipFill>
            <a:blip r:embed="rId1"/>
            <a:stretch/>
          </p:blipFill>
          <p:spPr>
            <a:xfrm>
              <a:off x="7920" y="3393720"/>
              <a:ext cx="4352760" cy="31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Рисунок 10" descr="Snap1.jpg"/>
            <p:cNvPicPr/>
            <p:nvPr/>
          </p:nvPicPr>
          <p:blipFill>
            <a:blip r:embed="rId2"/>
            <a:stretch/>
          </p:blipFill>
          <p:spPr>
            <a:xfrm>
              <a:off x="3860640" y="2533320"/>
              <a:ext cx="5291280" cy="428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Овал 11"/>
            <p:cNvSpPr/>
            <p:nvPr/>
          </p:nvSpPr>
          <p:spPr>
            <a:xfrm>
              <a:off x="3843360" y="2465280"/>
              <a:ext cx="1242720" cy="42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Овал 15"/>
            <p:cNvSpPr/>
            <p:nvPr/>
          </p:nvSpPr>
          <p:spPr>
            <a:xfrm>
              <a:off x="479160" y="5986440"/>
              <a:ext cx="3000240" cy="642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7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B93-02B5-4ED3-B8AE-55137580F0F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864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самых удобных и легкодоступных инструментов по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9" name="Picture 2" descr=""/>
          <p:cNvPicPr/>
          <p:nvPr/>
        </p:nvPicPr>
        <p:blipFill>
          <a:blip r:embed="rId1"/>
          <a:stretch/>
        </p:blipFill>
        <p:spPr>
          <a:xfrm>
            <a:off x="96840" y="1868400"/>
            <a:ext cx="8939160" cy="4567320"/>
          </a:xfrm>
          <a:prstGeom prst="rect">
            <a:avLst/>
          </a:prstGeom>
          <a:ln w="0">
            <a:noFill/>
          </a:ln>
        </p:spPr>
      </p:pic>
      <p:sp>
        <p:nvSpPr>
          <p:cNvPr id="1390" name="PlaceHolder 2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Автофиль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Содержимое 2"/>
          <p:cNvSpPr/>
          <p:nvPr/>
        </p:nvSpPr>
        <p:spPr>
          <a:xfrm>
            <a:off x="34920" y="13986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кетная обработка очереди заданий в отделе выпу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2" name="Picture 9" descr="C:\Dmitry\Attachments\Bitmaps\11\0302\Att.2011-03-02.8.png"/>
          <p:cNvPicPr/>
          <p:nvPr/>
        </p:nvPicPr>
        <p:blipFill>
          <a:blip r:embed="rId1"/>
          <a:stretch/>
        </p:blipFill>
        <p:spPr>
          <a:xfrm>
            <a:off x="34920" y="1844640"/>
            <a:ext cx="7867800" cy="316872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8" descr="C:\Dmitry\Attachments\Bitmaps\11\0302\Att.2011-03-02.6.png"/>
          <p:cNvPicPr/>
          <p:nvPr/>
        </p:nvPicPr>
        <p:blipFill>
          <a:blip r:embed="rId2"/>
          <a:stretch/>
        </p:blipFill>
        <p:spPr>
          <a:xfrm>
            <a:off x="30240" y="4005360"/>
            <a:ext cx="9112320" cy="2879640"/>
          </a:xfrm>
          <a:prstGeom prst="rect">
            <a:avLst/>
          </a:prstGeom>
          <a:ln w="0">
            <a:noFill/>
          </a:ln>
        </p:spPr>
      </p:pic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Выпуск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2D2-ED95-4A2C-9F1E-D3586DED145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6" name="Содержимое 2"/>
          <p:cNvGrpSpPr/>
          <p:nvPr/>
        </p:nvGrpSpPr>
        <p:grpSpPr>
          <a:xfrm>
            <a:off x="4986360" y="3286080"/>
            <a:ext cx="4133880" cy="932040"/>
            <a:chOff x="4986360" y="3286080"/>
            <a:chExt cx="4133880" cy="932040"/>
          </a:xfrm>
        </p:grpSpPr>
        <p:pic>
          <p:nvPicPr>
            <p:cNvPr id="1397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4986360" y="3286080"/>
              <a:ext cx="41338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"/>
            <p:cNvSpPr/>
            <p:nvPr/>
          </p:nvSpPr>
          <p:spPr>
            <a:xfrm>
              <a:off x="5003640" y="3303720"/>
              <a:ext cx="410544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имеры форм Мосинжпроекта, г. Москв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Комплектация и выгрузка документов для передачи заказч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Номер слайда 4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B1C3-BFAE-4039-BEE7-21BFE3AA065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1" name="Picture 2" descr=""/>
          <p:cNvPicPr/>
          <p:nvPr/>
        </p:nvPicPr>
        <p:blipFill>
          <a:blip r:embed="rId1"/>
          <a:stretch/>
        </p:blipFill>
        <p:spPr>
          <a:xfrm>
            <a:off x="-42840" y="1341360"/>
            <a:ext cx="6889680" cy="33228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3" descr=""/>
          <p:cNvPicPr/>
          <p:nvPr/>
        </p:nvPicPr>
        <p:blipFill>
          <a:blip r:embed="rId2"/>
          <a:stretch/>
        </p:blipFill>
        <p:spPr>
          <a:xfrm>
            <a:off x="3506760" y="2892600"/>
            <a:ext cx="5707080" cy="3921120"/>
          </a:xfrm>
          <a:prstGeom prst="rect">
            <a:avLst/>
          </a:prstGeom>
          <a:ln w="0">
            <a:noFill/>
          </a:ln>
        </p:spPr>
      </p:pic>
      <p:sp>
        <p:nvSpPr>
          <p:cNvPr id="1403" name="Text Box 3"/>
          <p:cNvSpPr/>
          <p:nvPr/>
        </p:nvSpPr>
        <p:spPr>
          <a:xfrm>
            <a:off x="6846840" y="1384200"/>
            <a:ext cx="2367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че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ертекстов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са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 Box 3"/>
          <p:cNvSpPr/>
          <p:nvPr/>
        </p:nvSpPr>
        <p:spPr>
          <a:xfrm>
            <a:off x="108000" y="4149720"/>
            <a:ext cx="3348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 отбора докумен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типам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атрибу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илож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14" descr="D:\докоборот\презентация\ГИПРО -2005\РИСУНКИ\отчеты\выполнение- СО.jpg"/>
          <p:cNvPicPr/>
          <p:nvPr/>
        </p:nvPicPr>
        <p:blipFill>
          <a:blip r:embed="rId1"/>
          <a:stretch/>
        </p:blipFill>
        <p:spPr>
          <a:xfrm>
            <a:off x="17640" y="2097000"/>
            <a:ext cx="8886600" cy="16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06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D7B1-B8FF-41E0-B83B-8F50120C356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7" name="Picture 12" descr="D:\докоборот\презентация\ГИПРО -2005\РИСУНКИ\отчеты\цветная по СО.jpg"/>
          <p:cNvPicPr/>
          <p:nvPr/>
        </p:nvPicPr>
        <p:blipFill>
          <a:blip r:embed="rId2"/>
          <a:stretch/>
        </p:blipFill>
        <p:spPr>
          <a:xfrm>
            <a:off x="736560" y="3471840"/>
            <a:ext cx="8167680" cy="21178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08" name="Picture 6" descr="D:\докоборот\презентация\ГИПРО -2005\РИСУНКИ\отчеты\отчет о приемке от СО.jpg"/>
          <p:cNvPicPr/>
          <p:nvPr/>
        </p:nvPicPr>
        <p:blipFill>
          <a:blip r:embed="rId3"/>
          <a:stretch/>
        </p:blipFill>
        <p:spPr>
          <a:xfrm>
            <a:off x="1978200" y="4508640"/>
            <a:ext cx="7143480" cy="230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409" name="Содержимое 2"/>
          <p:cNvSpPr/>
          <p:nvPr/>
        </p:nvSpPr>
        <p:spPr>
          <a:xfrm>
            <a:off x="108000" y="1316160"/>
            <a:ext cx="8856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е справки, перечни, отчёты по загрузке, графики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справо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юменНИИгипрогаз, г. Тюм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Аналитика по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Заголовок 1"/>
          <p:cNvSpPr/>
          <p:nvPr/>
        </p:nvSpPr>
        <p:spPr>
          <a:xfrm>
            <a:off x="611280" y="1989000"/>
            <a:ext cx="8064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смежны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зада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571400" y="144000"/>
            <a:ext cx="75596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Calibri"/>
              </a:rPr>
              <a:t>Lotsia  PDM Pl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10"/>
          <p:cNvSpPr/>
          <p:nvPr/>
        </p:nvSpPr>
        <p:spPr>
          <a:xfrm>
            <a:off x="34920" y="5735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митрий Садовник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оция Соф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CFAA-85F9-44A7-9674-EF83F5BEC20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Содержимое 2"/>
          <p:cNvSpPr/>
          <p:nvPr/>
        </p:nvSpPr>
        <p:spPr>
          <a:xfrm>
            <a:off x="108000" y="1644480"/>
            <a:ext cx="89280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жные задачи – задачи, соприкасающиеся с задачами, решаемыми в основной деятельности. Круг смежных задач, решаемых с помощью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tsia PDM Pl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чень широк – от учёта корреспонденции до учёта имущества. Ближайшие смежные задачи – регистрация входящей и исходящей корреспонденции, приказов, распоряжений, служебных запис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максимального количества задач в одной программе позволяет сэкономить на приобретении, внедрении и интеграции различных программ и сделать работу более комфортной за счет единого программного интерфей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любых задач должно выполняться поэтап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межны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DD2-75C3-46A7-B754-190FD8FA49F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571760" y="282240"/>
            <a:ext cx="738792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Регистрация входящей корреспонд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9" name="Picture 2" descr=""/>
          <p:cNvPicPr/>
          <p:nvPr/>
        </p:nvPicPr>
        <p:blipFill>
          <a:blip r:embed="rId1"/>
          <a:stretch/>
        </p:blipFill>
        <p:spPr>
          <a:xfrm>
            <a:off x="2865600" y="1413000"/>
            <a:ext cx="6262560" cy="5427360"/>
          </a:xfrm>
          <a:prstGeom prst="rect">
            <a:avLst/>
          </a:prstGeom>
          <a:ln w="0">
            <a:noFill/>
          </a:ln>
        </p:spPr>
      </p:pic>
      <p:sp>
        <p:nvSpPr>
          <p:cNvPr id="1420" name="Содержимое 2"/>
          <p:cNvSpPr/>
          <p:nvPr/>
        </p:nvSpPr>
        <p:spPr>
          <a:xfrm>
            <a:off x="4680" y="1557360"/>
            <a:ext cx="2860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аг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актные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а 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 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ая и ручная нумер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1" name="Прямая со стрелкой 7"/>
          <p:cNvCxnSpPr/>
          <p:nvPr/>
        </p:nvCxnSpPr>
        <p:spPr>
          <a:xfrm flipV="1">
            <a:off x="2484000" y="3428280"/>
            <a:ext cx="1801080" cy="18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2" name="Прямая со стрелкой 10"/>
          <p:cNvCxnSpPr/>
          <p:nvPr/>
        </p:nvCxnSpPr>
        <p:spPr>
          <a:xfrm flipV="1">
            <a:off x="2739600" y="2668320"/>
            <a:ext cx="896040" cy="761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3" name="Прямая со стрелкой 27"/>
          <p:cNvCxnSpPr/>
          <p:nvPr/>
        </p:nvCxnSpPr>
        <p:spPr>
          <a:xfrm flipV="1">
            <a:off x="2092320" y="3573000"/>
            <a:ext cx="5690160" cy="72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4" name="Прямая со стрелкой 33"/>
          <p:cNvCxnSpPr/>
          <p:nvPr/>
        </p:nvCxnSpPr>
        <p:spPr>
          <a:xfrm flipV="1">
            <a:off x="2217600" y="2339640"/>
            <a:ext cx="1045440" cy="658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B94-6A43-4760-A089-51B9E4CF4CE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арточка входящего пис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Picture 4" descr=""/>
          <p:cNvPicPr/>
          <p:nvPr/>
        </p:nvPicPr>
        <p:blipFill>
          <a:blip r:embed="rId1"/>
          <a:stretch/>
        </p:blipFill>
        <p:spPr>
          <a:xfrm>
            <a:off x="187200" y="1871640"/>
            <a:ext cx="8677440" cy="4968720"/>
          </a:xfrm>
          <a:prstGeom prst="rect">
            <a:avLst/>
          </a:prstGeom>
          <a:ln w="0">
            <a:noFill/>
          </a:ln>
        </p:spPr>
      </p:pic>
      <p:sp>
        <p:nvSpPr>
          <p:cNvPr id="1428" name="Содержимое 2"/>
          <p:cNvSpPr/>
          <p:nvPr/>
        </p:nvSpPr>
        <p:spPr>
          <a:xfrm>
            <a:off x="179280" y="1398600"/>
            <a:ext cx="8785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формы Мосинжпроекта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E1D4-69B6-4D9A-A508-670A87B9128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Обработка резолю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1" name="Picture 2" descr=""/>
          <p:cNvPicPr/>
          <p:nvPr/>
        </p:nvPicPr>
        <p:blipFill>
          <a:blip r:embed="rId1"/>
          <a:stretch/>
        </p:blipFill>
        <p:spPr>
          <a:xfrm>
            <a:off x="-1440" y="1484280"/>
            <a:ext cx="913752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432" name="Подзаголовок 1"/>
          <p:cNvGrpSpPr/>
          <p:nvPr/>
        </p:nvGrpSpPr>
        <p:grpSpPr>
          <a:xfrm>
            <a:off x="92160" y="2981160"/>
            <a:ext cx="4132080" cy="2548080"/>
            <a:chOff x="92160" y="2981160"/>
            <a:chExt cx="4132080" cy="2548080"/>
          </a:xfrm>
        </p:grpSpPr>
        <p:pic>
          <p:nvPicPr>
            <p:cNvPr id="1433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92160" y="2981160"/>
              <a:ext cx="413208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108000" y="2997360"/>
              <a:ext cx="410364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Любая иерархия резолюци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Доведение резолюций до исполнителе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нтроль хода исполн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79280" y="147132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все процессы проектных организаций: корреспонденция, управленческий документооборот, договорная работа, проектно-сметная и изыскательская документация, конструкторская документация, передача документации заказчику, замечания экспертизы, архивное хранение, авторский надзор, внесение изменени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ует управление информационными процессами и контрол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х испол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ва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автоматизацию прохождения документов между участниками бизнес-проце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требует программирования, гибкая, открытая и масштабируем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льнейшая российская система управления данными и документооборо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еальные внедрени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otsia PDM Plus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говорят сами за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3C7-9F0E-4808-9D35-D3B25C71D38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048A-27DE-4E4F-AFE5-5254873A2E9F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Контроль хода испол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7" name="Picture 2" descr=""/>
          <p:cNvPicPr/>
          <p:nvPr/>
        </p:nvPicPr>
        <p:blipFill>
          <a:blip r:embed="rId1"/>
          <a:stretch/>
        </p:blipFill>
        <p:spPr>
          <a:xfrm>
            <a:off x="58680" y="3063960"/>
            <a:ext cx="9036000" cy="32446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3" descr=""/>
          <p:cNvPicPr/>
          <p:nvPr/>
        </p:nvPicPr>
        <p:blipFill>
          <a:blip r:embed="rId2"/>
          <a:stretch/>
        </p:blipFill>
        <p:spPr>
          <a:xfrm>
            <a:off x="409680" y="1558800"/>
            <a:ext cx="4306680" cy="114948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4" descr=""/>
          <p:cNvPicPr/>
          <p:nvPr/>
        </p:nvPicPr>
        <p:blipFill>
          <a:blip r:embed="rId3"/>
          <a:stretch/>
        </p:blipFill>
        <p:spPr>
          <a:xfrm>
            <a:off x="4788000" y="1569960"/>
            <a:ext cx="2879640" cy="579600"/>
          </a:xfrm>
          <a:prstGeom prst="rect">
            <a:avLst/>
          </a:prstGeom>
          <a:ln w="0">
            <a:noFill/>
          </a:ln>
        </p:spPr>
      </p:pic>
      <p:cxnSp>
        <p:nvCxnSpPr>
          <p:cNvPr id="1440" name="Соединительная линия уступом 16"/>
          <p:cNvCxnSpPr/>
          <p:nvPr/>
        </p:nvCxnSpPr>
        <p:spPr>
          <a:xfrm flipV="1" rot="16200000">
            <a:off x="-328680" y="3533760"/>
            <a:ext cx="2994840" cy="25308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1" name="Соединительная линия уступом 20"/>
          <p:cNvCxnSpPr/>
          <p:nvPr/>
        </p:nvCxnSpPr>
        <p:spPr>
          <a:xfrm flipH="1" flipV="1" rot="5400000">
            <a:off x="417240" y="3738600"/>
            <a:ext cx="2809080" cy="4323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42" name="Прямая со стрелкой 23"/>
          <p:cNvCxnSpPr/>
          <p:nvPr/>
        </p:nvCxnSpPr>
        <p:spPr>
          <a:xfrm flipV="1">
            <a:off x="769680" y="2032920"/>
            <a:ext cx="1080" cy="280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5AC-0CAB-4951-89AF-D3067566F28A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571760" y="282240"/>
            <a:ext cx="738792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Регистрация исходящей корреспонд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Содержимое 2"/>
          <p:cNvSpPr/>
          <p:nvPr/>
        </p:nvSpPr>
        <p:spPr>
          <a:xfrm>
            <a:off x="4680" y="1359000"/>
            <a:ext cx="5143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о используются справоч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ческая и ручная нум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ёт отправки нескольким адреса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6" name="Picture 2" descr=""/>
          <p:cNvPicPr/>
          <p:nvPr/>
        </p:nvPicPr>
        <p:blipFill>
          <a:blip r:embed="rId1"/>
          <a:stretch/>
        </p:blipFill>
        <p:spPr>
          <a:xfrm>
            <a:off x="88920" y="2430360"/>
            <a:ext cx="8964720" cy="4383360"/>
          </a:xfrm>
          <a:prstGeom prst="rect">
            <a:avLst/>
          </a:prstGeom>
          <a:ln w="0">
            <a:noFill/>
          </a:ln>
        </p:spPr>
      </p:pic>
      <p:sp>
        <p:nvSpPr>
          <p:cNvPr id="1447" name="Содержимое 2"/>
          <p:cNvSpPr/>
          <p:nvPr/>
        </p:nvSpPr>
        <p:spPr>
          <a:xfrm>
            <a:off x="5508720" y="1430280"/>
            <a:ext cx="34560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формы Аэропроекта, г. Моск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Связь проектов и пис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D4A-738C-4FE0-9013-D129864E316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2796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4" descr=""/>
          <p:cNvPicPr/>
          <p:nvPr/>
        </p:nvPicPr>
        <p:blipFill>
          <a:blip r:embed="rId2"/>
          <a:stretch/>
        </p:blipFill>
        <p:spPr>
          <a:xfrm>
            <a:off x="7920" y="5589720"/>
            <a:ext cx="9136080" cy="108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стория перепи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DF36-B4E5-4E50-B37D-C17C47F8376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4" name="Picture 2" descr=""/>
          <p:cNvPicPr/>
          <p:nvPr/>
        </p:nvPicPr>
        <p:blipFill>
          <a:blip r:embed="rId1"/>
          <a:stretch/>
        </p:blipFill>
        <p:spPr>
          <a:xfrm>
            <a:off x="47520" y="1806480"/>
            <a:ext cx="9047160" cy="4286520"/>
          </a:xfrm>
          <a:prstGeom prst="rect">
            <a:avLst/>
          </a:prstGeom>
          <a:ln w="0">
            <a:noFill/>
          </a:ln>
        </p:spPr>
      </p:pic>
      <p:grpSp>
        <p:nvGrpSpPr>
          <p:cNvPr id="1455" name="Подзаголовок 1"/>
          <p:cNvGrpSpPr/>
          <p:nvPr/>
        </p:nvGrpSpPr>
        <p:grpSpPr>
          <a:xfrm>
            <a:off x="182520" y="3828960"/>
            <a:ext cx="4140360" cy="1541520"/>
            <a:chOff x="182520" y="3828960"/>
            <a:chExt cx="4140360" cy="1541520"/>
          </a:xfrm>
        </p:grpSpPr>
        <p:pic>
          <p:nvPicPr>
            <p:cNvPr id="1456" name="Подзаголовок 1" descr=""/>
            <p:cNvPicPr/>
            <p:nvPr/>
          </p:nvPicPr>
          <p:blipFill>
            <a:blip r:embed="rId2"/>
            <a:stretch/>
          </p:blipFill>
          <p:spPr>
            <a:xfrm>
              <a:off x="182520" y="3828960"/>
              <a:ext cx="4140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203040" y="3843360"/>
              <a:ext cx="41040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едется автоматичес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Отображает всю цепочку писем и связе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4" descr=""/>
          <p:cNvPicPr/>
          <p:nvPr/>
        </p:nvPicPr>
        <p:blipFill>
          <a:blip r:embed="rId1"/>
          <a:stretch/>
        </p:blipFill>
        <p:spPr>
          <a:xfrm>
            <a:off x="34920" y="1424160"/>
            <a:ext cx="7201080" cy="539244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Собственный почтовый кли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6CF0-0848-4830-AAEE-15DD4548611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Содержимое 2"/>
          <p:cNvSpPr/>
          <p:nvPr/>
        </p:nvSpPr>
        <p:spPr>
          <a:xfrm>
            <a:off x="6443640" y="2565360"/>
            <a:ext cx="2674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матический или ручной прием сообщений от внешних адресат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правка сообщений внешним адреса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возная история переписки по внешним и внутренним сообще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6126120"/>
            <a:ext cx="9302760" cy="804960"/>
          </a:xfrm>
          <a:prstGeom prst="rect">
            <a:avLst/>
          </a:prstGeom>
          <a:ln w="0">
            <a:noFill/>
          </a:ln>
        </p:spPr>
      </p:pic>
      <p:grpSp>
        <p:nvGrpSpPr>
          <p:cNvPr id="1463" name="Группа 7"/>
          <p:cNvGrpSpPr/>
          <p:nvPr/>
        </p:nvGrpSpPr>
        <p:grpSpPr>
          <a:xfrm>
            <a:off x="-12600" y="0"/>
            <a:ext cx="9144000" cy="1357200"/>
            <a:chOff x="-12600" y="0"/>
            <a:chExt cx="9144000" cy="1357200"/>
          </a:xfrm>
        </p:grpSpPr>
        <p:pic>
          <p:nvPicPr>
            <p:cNvPr id="1464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4400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Рисунок 9" descr="lotsia_software_logo_179x158.gif"/>
            <p:cNvPicPr/>
            <p:nvPr/>
          </p:nvPicPr>
          <p:blipFill>
            <a:blip r:embed="rId3"/>
            <a:stretch/>
          </p:blipFill>
          <p:spPr>
            <a:xfrm>
              <a:off x="87120" y="49320"/>
              <a:ext cx="1510560" cy="121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6" name="Заголовок 1"/>
          <p:cNvSpPr/>
          <p:nvPr/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Журналы регист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Подзаголовок 2"/>
          <p:cNvSpPr/>
          <p:nvPr/>
        </p:nvSpPr>
        <p:spPr>
          <a:xfrm>
            <a:off x="57240" y="1413000"/>
            <a:ext cx="8475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формы журналов, «живые» ст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DCB-5967-4FD0-A048-02278022432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Picture 2" descr=""/>
          <p:cNvPicPr/>
          <p:nvPr/>
        </p:nvPicPr>
        <p:blipFill>
          <a:blip r:embed="rId4"/>
          <a:stretch/>
        </p:blipFill>
        <p:spPr>
          <a:xfrm>
            <a:off x="0" y="2066760"/>
            <a:ext cx="9191520" cy="272448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4" descr=""/>
          <p:cNvPicPr/>
          <p:nvPr/>
        </p:nvPicPr>
        <p:blipFill>
          <a:blip r:embed="rId5"/>
          <a:stretch/>
        </p:blipFill>
        <p:spPr>
          <a:xfrm>
            <a:off x="-11160" y="4170240"/>
            <a:ext cx="9142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387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Иерархическое хранение док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4" descr=""/>
          <p:cNvPicPr/>
          <p:nvPr/>
        </p:nvPicPr>
        <p:blipFill>
          <a:blip r:embed="rId1"/>
          <a:stretch/>
        </p:blipFill>
        <p:spPr>
          <a:xfrm>
            <a:off x="9360" y="1413000"/>
            <a:ext cx="3338640" cy="36860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5" descr=""/>
          <p:cNvPicPr/>
          <p:nvPr/>
        </p:nvPicPr>
        <p:blipFill>
          <a:blip r:embed="rId2"/>
          <a:stretch/>
        </p:blipFill>
        <p:spPr>
          <a:xfrm>
            <a:off x="2771640" y="2651040"/>
            <a:ext cx="3695760" cy="3873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3" descr=""/>
          <p:cNvPicPr/>
          <p:nvPr/>
        </p:nvPicPr>
        <p:blipFill>
          <a:blip r:embed="rId3"/>
          <a:stretch/>
        </p:blipFill>
        <p:spPr>
          <a:xfrm>
            <a:off x="5724360" y="3030480"/>
            <a:ext cx="3424320" cy="3783240"/>
          </a:xfrm>
          <a:prstGeom prst="rect">
            <a:avLst/>
          </a:prstGeom>
          <a:ln w="0">
            <a:noFill/>
          </a:ln>
        </p:spPr>
      </p:pic>
      <p:sp>
        <p:nvSpPr>
          <p:cNvPr id="1475" name="Заголовок 1"/>
          <p:cNvSpPr/>
          <p:nvPr/>
        </p:nvSpPr>
        <p:spPr>
          <a:xfrm>
            <a:off x="5292720" y="1341360"/>
            <a:ext cx="3816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ы Бюро САП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Номер слайда 4"/>
          <p:cNvSpPr/>
          <p:nvPr/>
        </p:nvSpPr>
        <p:spPr>
          <a:xfrm>
            <a:off x="7010280" y="6475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C16-39C3-4049-8D01-100DB83FD78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7" name="Прямая со стрелкой 13"/>
          <p:cNvCxnSpPr/>
          <p:nvPr/>
        </p:nvCxnSpPr>
        <p:spPr>
          <a:xfrm flipV="1">
            <a:off x="1402920" y="4587120"/>
            <a:ext cx="1080" cy="840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78" name="Заголовок 1"/>
          <p:cNvSpPr/>
          <p:nvPr/>
        </p:nvSpPr>
        <p:spPr>
          <a:xfrm>
            <a:off x="36360" y="5300640"/>
            <a:ext cx="272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спонде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Скругленный прямоугольник 5"/>
          <p:cNvSpPr/>
          <p:nvPr/>
        </p:nvSpPr>
        <p:spPr>
          <a:xfrm>
            <a:off x="309600" y="1847880"/>
            <a:ext cx="2436840" cy="2739960"/>
          </a:xfrm>
          <a:custGeom>
            <a:avLst/>
            <a:gdLst>
              <a:gd name="textAreaLeft" fmla="*/ 118800 w 2436840"/>
              <a:gd name="textAreaRight" fmla="*/ 2318040 w 2436840"/>
              <a:gd name="textAreaTop" fmla="*/ 118800 h 2739960"/>
              <a:gd name="textAreaBottom" fmla="*/ 2621160 h 2739960"/>
            </a:gdLst>
            <a:ahLst/>
            <a:rect l="textAreaLeft" t="textAreaTop" r="textAreaRight" b="textAreaBottom"/>
            <a:pathLst>
              <a:path w="21600" h="24286">
                <a:moveTo>
                  <a:pt x="3600" y="0"/>
                </a:moveTo>
                <a:arcTo wR="3600" hR="3600" stAng="16200000" swAng="-5400000"/>
                <a:lnTo>
                  <a:pt x="0" y="20686"/>
                </a:lnTo>
                <a:arcTo wR="3600" hR="3600" stAng="10800000" swAng="-5400000"/>
                <a:lnTo>
                  <a:pt x="18000" y="24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Заголовок 1"/>
          <p:cNvSpPr/>
          <p:nvPr/>
        </p:nvSpPr>
        <p:spPr>
          <a:xfrm>
            <a:off x="3648240" y="1916280"/>
            <a:ext cx="1284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1" name="Прямая со стрелкой 16"/>
          <p:cNvCxnSpPr/>
          <p:nvPr/>
        </p:nvCxnSpPr>
        <p:spPr>
          <a:xfrm>
            <a:off x="4355640" y="2409840"/>
            <a:ext cx="1080" cy="82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2" name="Скругленный прямоугольник 18"/>
          <p:cNvSpPr/>
          <p:nvPr/>
        </p:nvSpPr>
        <p:spPr>
          <a:xfrm>
            <a:off x="3216240" y="3255840"/>
            <a:ext cx="2435400" cy="2981520"/>
          </a:xfrm>
          <a:custGeom>
            <a:avLst/>
            <a:gdLst>
              <a:gd name="textAreaLeft" fmla="*/ 118800 w 2435400"/>
              <a:gd name="textAreaRight" fmla="*/ 2316600 w 2435400"/>
              <a:gd name="textAreaTop" fmla="*/ 118800 h 2981520"/>
              <a:gd name="textAreaBottom" fmla="*/ 2862720 h 298152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Заголовок 1"/>
          <p:cNvSpPr/>
          <p:nvPr/>
        </p:nvSpPr>
        <p:spPr>
          <a:xfrm>
            <a:off x="6372360" y="1989000"/>
            <a:ext cx="20984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е запис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4" name="Прямая со стрелкой 20"/>
          <p:cNvCxnSpPr/>
          <p:nvPr/>
        </p:nvCxnSpPr>
        <p:spPr>
          <a:xfrm>
            <a:off x="7451280" y="2678040"/>
            <a:ext cx="1080" cy="92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5" name="Скругленный прямоугольник 21"/>
          <p:cNvSpPr/>
          <p:nvPr/>
        </p:nvSpPr>
        <p:spPr>
          <a:xfrm>
            <a:off x="6012000" y="3616200"/>
            <a:ext cx="2952720" cy="304164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041640"/>
              <a:gd name="textAreaBottom" fmla="*/ 2897640 h 3041640"/>
            </a:gdLst>
            <a:ahLst/>
            <a:rect l="textAreaLeft" t="textAreaTop" r="textAreaRight" b="textAreaBottom"/>
            <a:pathLst>
              <a:path w="21600" h="22250">
                <a:moveTo>
                  <a:pt x="3600" y="0"/>
                </a:moveTo>
                <a:arcTo wR="3600" hR="3600" stAng="16200000" swAng="-5400000"/>
                <a:lnTo>
                  <a:pt x="0" y="18650"/>
                </a:lnTo>
                <a:arcTo wR="3600" hR="3600" stAng="10800000" swAng="-5400000"/>
                <a:lnTo>
                  <a:pt x="18000" y="222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571760" y="115920"/>
            <a:ext cx="7387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Lotsia PDM Plus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: беспрецедентная гиб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85680" y="1484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а организация управления информацией и работами практически для любых смежных задач, 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отдела автоматизации (заявки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 паспортизация иму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егченный вариант управления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в стандартов и других нормативных доку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ценный справочник по сотрудникам пред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е автоматические и полуавтоматические рассылки информации (дни рождения, напоминания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ос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ак далее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чти на любой вопрос «можно ли…» мы отвечаем: «мож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tsia PDM Plu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– инструмент в ВАШИХ РУ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AE6E-A448-4CA0-9E9F-FDE0E6887C9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Заголовок 1"/>
          <p:cNvSpPr/>
          <p:nvPr/>
        </p:nvSpPr>
        <p:spPr>
          <a:xfrm>
            <a:off x="1571760" y="282600"/>
            <a:ext cx="738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Лучше не один раз увиде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Подзаголовок 2"/>
          <p:cNvSpPr/>
          <p:nvPr/>
        </p:nvSpPr>
        <p:spPr>
          <a:xfrm>
            <a:off x="179280" y="1557360"/>
            <a:ext cx="87804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постоянной основе мы проводим бесплатные (в том числе выездные) демонстрации работ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tsia PDM Pl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оприятия проводятся по Вашим предварительным заяв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тактное лицо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ликова Светл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ефон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495) 74-804-74, 74-803-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лектронная почта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golikova@lotsia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630-7DF5-466A-AE07-4B7057D2576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Заголовок 1"/>
          <p:cNvSpPr/>
          <p:nvPr/>
        </p:nvSpPr>
        <p:spPr>
          <a:xfrm>
            <a:off x="611280" y="1773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Calibri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571400" y="215640"/>
            <a:ext cx="75596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Заголовок 1"/>
          <p:cNvSpPr/>
          <p:nvPr/>
        </p:nvSpPr>
        <p:spPr>
          <a:xfrm>
            <a:off x="611280" y="3429000"/>
            <a:ext cx="8208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www.lotsia.c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 www.lplm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http:// www.plm-conference.c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33AA-3ACA-4E2B-B3A4-85E6E383B6A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71760" y="115560"/>
            <a:ext cx="738792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Некоторые пользователи из числа проектных организ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Содержимое 2"/>
          <p:cNvSpPr/>
          <p:nvPr/>
        </p:nvSpPr>
        <p:spPr>
          <a:xfrm>
            <a:off x="4500720" y="1357200"/>
            <a:ext cx="3071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 Box 10"/>
          <p:cNvSpPr/>
          <p:nvPr/>
        </p:nvSpPr>
        <p:spPr>
          <a:xfrm>
            <a:off x="0" y="1413000"/>
            <a:ext cx="277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ммофо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гарский электролиз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й комбин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эро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шнеф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городобл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азпроектинжиниринг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кок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пищепром №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протрубопровод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проект, г. Пен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СП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рВодГе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непрВНИПИэнергоп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н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айкал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т промышленного  проектирования угольных  предпри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Box 11"/>
          <p:cNvSpPr/>
          <p:nvPr/>
        </p:nvSpPr>
        <p:spPr>
          <a:xfrm>
            <a:off x="2843280" y="1413000"/>
            <a:ext cx="334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т «Шельф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ркутск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ркутский промстрой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ЦЭ Поволжь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асноярскграждан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пецкий ГИПРОМ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УКОЙЛ-инфор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УКОЙЛ-Нижегороднефтеоргсинте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сгипротран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синж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фтепродукт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ИГражданСельстр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ПИгазпереработ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Ц «НЕФТЕГАЗ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тров Индуст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Ц «Североникел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КФ Концерна «Росэнергоат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иквар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Box 12"/>
          <p:cNvSpPr/>
          <p:nvPr/>
        </p:nvSpPr>
        <p:spPr>
          <a:xfrm>
            <a:off x="6194520" y="1357200"/>
            <a:ext cx="291456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ный институт №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стройдизай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ратов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веро-Западная инжиниринговая корпор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гипротранспу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желдор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НИПИР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дор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ПРОМНИИ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юзхимпром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ойтранс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хно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ЭР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юменНИИгипро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аинский Нефтегазовый Инстит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Хим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ЮжНИИгипрога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кутагроп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ославгражданпроек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C5E-7F06-47F1-AA80-0FCB6A2B4DF4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71760" y="-27000"/>
            <a:ext cx="7387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Некоторые пользователи из числа машиностроительных и приборостроительных предприят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71280" y="1643040"/>
            <a:ext cx="414036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Электромехн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Электрощи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«Метровагонма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О НПО «Иск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энерго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ЭК «Динам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К «Таврида Электр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митровградхим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рументальный завод - П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Б «Южно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рн радиостроения «Вег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шзавод им. Дзержинск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я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рманское морское парох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12"/>
          <p:cNvSpPr/>
          <p:nvPr/>
        </p:nvSpPr>
        <p:spPr>
          <a:xfrm>
            <a:off x="4284720" y="1660680"/>
            <a:ext cx="482436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И Приборостро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ЛОМ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НПК «ЭЛАРА» имени Г. А. Ильенко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Российские космические систем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АО «Техприбор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нзхимм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енский приборостроительный за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менское Приборостроительное Конструкторское Бю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ТК им. Кузнец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доремонтный завод «Нерп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хгорный приборостроительный за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 Тонких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E588-AE3D-4407-B810-C250B7A4B1D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71760" y="0"/>
            <a:ext cx="75722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Специфика внедрения в проектных организац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71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стандартов СПД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ЕСКД (для механи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отраслевых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Ф № 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держка внутренних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ие требованиям стандартов сер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9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провождение проектов в рамках авторского над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Номер слайда 5"/>
          <p:cNvSpPr/>
          <p:nvPr/>
        </p:nvSpPr>
        <p:spPr>
          <a:xfrm>
            <a:off x="701028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792E-1F35-4AB0-850C-FC6D90A58A03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2:50:00Z</dcterms:created>
  <dc:creator/>
  <dc:description/>
  <dc:language>en-US</dc:language>
  <cp:lastModifiedBy>Ls_103</cp:lastModifiedBy>
  <cp:lastPrinted>2011-04-23T20:03:53Z</cp:lastPrinted>
  <dcterms:modified xsi:type="dcterms:W3CDTF">2012-04-24T14:05:33Z</dcterms:modified>
  <cp:revision>1</cp:revision>
  <dc:subject/>
  <dc:title>Lotsia  PDM Plus</dc:title>
</cp:coreProperties>
</file>