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jpeg" ContentType="image/jpeg"/>
  <Override PartName="/ppt/media/image24.png" ContentType="image/png"/>
  <Override PartName="/ppt/media/image21.png" ContentType="image/png"/>
  <Override PartName="/ppt/media/image58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95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94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87.png" ContentType="image/png"/>
  <Override PartName="/ppt/media/image79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  <p:sldId id="316" r:id="rId90"/>
    <p:sldId id="317" r:id="rId91"/>
    <p:sldId id="318" r:id="rId92"/>
    <p:sldId id="319" r:id="rId93"/>
    <p:sldId id="320" r:id="rId94"/>
    <p:sldId id="321" r:id="rId95"/>
    <p:sldId id="322" r:id="rId96"/>
    <p:sldId id="323" r:id="rId97"/>
    <p:sldId id="324" r:id="rId9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slide" Target="slides/slide61.xml"/><Relationship Id="rId91" Type="http://schemas.openxmlformats.org/officeDocument/2006/relationships/slide" Target="slides/slide62.xml"/><Relationship Id="rId92" Type="http://schemas.openxmlformats.org/officeDocument/2006/relationships/slide" Target="slides/slide63.xml"/><Relationship Id="rId93" Type="http://schemas.openxmlformats.org/officeDocument/2006/relationships/slide" Target="slides/slide64.xml"/><Relationship Id="rId94" Type="http://schemas.openxmlformats.org/officeDocument/2006/relationships/slide" Target="slides/slide65.xml"/><Relationship Id="rId95" Type="http://schemas.openxmlformats.org/officeDocument/2006/relationships/slide" Target="slides/slide66.xml"/><Relationship Id="rId96" Type="http://schemas.openxmlformats.org/officeDocument/2006/relationships/slide" Target="slides/slide67.xml"/><Relationship Id="rId97" Type="http://schemas.openxmlformats.org/officeDocument/2006/relationships/slide" Target="slides/slide68.xml"/><Relationship Id="rId98" Type="http://schemas.openxmlformats.org/officeDocument/2006/relationships/slide" Target="slides/slide69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dt" idx="7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ftr" idx="7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 type="sldNum" idx="8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673E-28C4-4084-B58A-13C26280A2C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D16-2E6D-4415-8C1E-72DCA8F1BC8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2B4B-D5A0-485E-95A3-D766D27B4CA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DEA-FF48-4CA0-8C85-CC3981ACBE7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9EC-DE43-40A3-8770-0DB3DE0B2EB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2519-E56A-4B59-87C2-4D6B38F431E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7F3C-A4BA-4DD5-8793-05ECBD210BD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ED91-49C3-40F5-BB89-AF073D6F2B3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DDE-1548-4B9B-B8AF-48F42A2DE0C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9F7-FF4E-4D5B-97D8-DB5AF5A4E34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FBC0-7C66-49AF-9973-DE65F9224AF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38A0-C6E9-46FD-9105-8277BD4F4A6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8AA-F09F-4EF7-B5CE-88DFAA23EA2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7E63-A7BE-4915-8A87-DE1EE3D7903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FD1-B398-472E-9377-C891D1D49A3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8F40-9989-4BA7-AD74-EC88958DE1A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CD97-F339-40AE-AF92-8AE8E5625FE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DAAE-8136-464E-ACC3-021E2DD617A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34E-7511-41D4-BBE9-E90D85DB1A5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121-5A80-4A46-B824-6FE1410BA5B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A45EE-4A88-48E3-9261-D5088D38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3D94F5-266A-46BD-B817-114F1F8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A7E92-9B89-4C91-A129-73EE3BB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D9D24-F55F-44E3-82E3-74F4831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BB523-4CF9-4923-ADD6-D081D48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A56D2-A3C1-428F-99A1-F2FB1BC0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DC3CA-C0A0-4DE3-8E81-974ACF8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32C28-B1BB-4FC6-80A3-FD1C28D3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3607B-3681-4420-91A0-07A0C118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DFDEE-9269-4566-AE31-6A06FD68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6C858-665D-4E8C-A874-0CA950F6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041301-712F-431A-85C6-D14313C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72950-6436-4232-9DC0-EED7A138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0F2AD-D888-4780-A587-1F4C39FB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F352C-584B-4094-98F3-BD020F6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216BF-0AB9-431D-8F23-C0566FAF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A9161-C0B9-4AAF-873D-4EF194A5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337C4-ECA1-4E24-AAEA-EE1E529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26505-9E20-461D-B6AC-DFE1A8BF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8B744-FB7F-4E84-BED3-3ED5A2C7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14450-5880-4449-BA4D-2A03D9E9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D6696-1542-450D-8AFE-89774EC1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4E7B1B-879B-48AF-A8C4-99D6996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1AD812-E03C-47A3-A492-70565424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6567C6-5A91-4863-B8A2-5090C8EE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10C34-6A38-4D61-824B-227A40F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B00C68-E547-4A88-8D2F-D31EC0C7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D8251-AC06-40D3-B2BD-BEB265E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D22BBF-D431-4B07-8398-D2F1BCB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2D64B-B64B-4E1F-B08E-8ECBB42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7E34E-F117-4E7B-A8E7-FAB697B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7ED601-6113-4D36-B74E-C8BC2671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D82BF-C603-4A86-B528-13AE9600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968023-ECA6-4AE3-8886-1DF77D6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CCA1E-E477-4CC1-A247-7D7F30E2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8098AA-4B3A-4CAA-B3D7-5058525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CCD05-0647-47BC-A11D-2503D2B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5C0CBE-05FA-4B53-9FDE-05F62CC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0A8977-31D3-4AE8-8017-BD2F221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324306-BAE4-4182-953A-1D086D9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F0E8AA-0215-46BD-B900-2671972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DD9C8D-A6B2-46D2-B845-3A94091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6CDAE-6119-4A19-A41B-3D1B829E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9BDB53-1A23-442E-8133-1DD2B33F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83ECA8-5D84-49D1-A069-0A76E864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F3CF29-F5BF-435F-9567-D652EA3A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3E2397-80BD-492B-B2CD-99366F4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845AAB-4B5F-4185-BC21-7914088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935312-AB84-4155-AA77-41B44C3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6C9599-F1BD-4AB9-8B21-958FE86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696C0D-CEA5-4B8F-8928-7A5BEB5D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F1B514-0D9E-430B-B78C-E2A70A6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747D53-734E-4667-A098-F625F9E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9D19BC-73E2-49C2-812E-5619104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16E356-2515-42FF-AFA3-41F7847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024162-8A4A-4124-87EF-9B3B4528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A0CF98-00DD-44B2-8BE2-3E4BD2A1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A459F-A2DB-4CF3-BB1C-3BF059E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F75D92-5A5A-416F-A2B4-CF97742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1E3A88-3E0D-4892-907C-0D0721DB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2A11D9-86CC-4179-86C0-47E89FE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B8222-0FBB-4691-A965-E557DB9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F19C9-5EB5-4EF6-9FC4-0BA0ECF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ABEA1A-6546-4D39-B64C-DEBD5B4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12106-813C-48C7-9958-97150AD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FAECE-45C5-4130-906A-EEAB417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7014D-0433-4C35-8E57-7B78525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B1C4A-89C9-4A02-99F5-E8BED4F3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66A7B-13A2-4A03-BE12-97C89B7D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9C8B6A-DB4C-4CEB-808A-3690224E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0B4B87-7F4D-40D3-BEF3-153B090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839177-6E17-4144-BE13-85D2C353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39B535-6AD7-4ED4-AED1-72E02BB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19F306-837D-4E96-83D0-7E9E41B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DFD930-C3C2-446F-85DA-4EDDA4E8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72E397-3C80-4945-A57B-DB6E63F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47268A-F653-4508-82A0-23AE0C5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15939D-6A96-41A4-97C6-9DE0340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2F3A89-B975-4339-B138-9E4A89E4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12A240-11D3-44DF-B38A-BB340418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E37D92-A3A5-4E22-8B30-304E6629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5D5F6D-0475-443D-A40D-09731588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E788B3-C3B0-4392-A325-19F8FE5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6A8E12-ADF0-4F50-9333-F4CDB96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597DC7-BFEE-46B0-8F09-9D5E382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9972E1-3AD2-4808-96DC-3ABDF081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4D4450-B55A-4146-87F3-69E6078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8C8F1A-8B82-4030-AB56-24DBAB5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3769F0-BA4D-4F7D-AF5D-F3B1A25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55B20A-239B-47B4-A717-C312415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31E120-443B-437C-B77D-ACDCE999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E78206-C397-4150-9F5A-DFD1C622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F86209-A518-4D02-A273-EECEA6F2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C6C7A9-F4C4-4F89-AAAA-E0328ECD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A38AD2-2000-4841-8315-CEB6210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99864C-00AB-46C2-A549-1705E81B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6B83D8-D782-404E-A16F-C6B284B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AF53CA-67C6-416C-843F-FA4FED87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463667-936C-4479-8930-85E4547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036E2B-C2D1-4628-9A0B-623C31F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9573F2-BD48-428D-B77A-66FD531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948671-B15B-431A-B34B-AFC45D7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9BFDBB-3B19-44C6-A77F-C532998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E0C440-85AB-48A0-9B2F-361F58E2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CA1CC1-AB94-42D8-B363-04A96A11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6A82A2-276F-451D-BC6F-6E1C0293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532928-920F-42C3-9327-34D0596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6FBDE8-7135-428C-94DB-DA68E95A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1BAAE5-F049-4684-AE0B-3A2973FC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E22BCE-0878-476F-89EA-C19E624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CD814E-562B-4620-983A-813A6BC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DD0D16-63C4-4F0C-8588-0D3D525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D3AA72-082A-4DEE-BF41-3BC3414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6EAA0F-33F2-4DD7-B69F-88C41EF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DD54B2-3C78-4005-842B-C6B6D922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27AC05-15E0-4AD5-810C-88933CF1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4DA1B4-4632-4A70-99F5-15ECD863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41FD7E-BFC4-4BF7-99CE-E3E2626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AC25D5-30E5-4717-A5DD-517B5CFD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BC0C92-C3A7-477B-A3F4-93C66D9C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2D0316-D501-4101-9B6C-8A85E10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BB32BD-8010-4C58-8378-FB7513A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90C3F6-1240-4CDE-907E-34BD2F0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F381BD-3612-462C-9926-6C0164D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500076-68DC-4DCF-8D49-2C7376F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35D46A-6B28-443D-B869-7432C02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92AF34-C6E5-4A47-B081-A317207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FD2A9F-5016-4FCE-9629-403E92D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D48A72-9223-4C08-8A1E-03C936A1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F2D2B3-A408-4414-9714-4DF6F2AD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1E86EB-2A59-48AC-94BC-F7B6F46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025DE0-1CDB-4599-BACC-B721FA94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20B7DE-27BB-4FA2-92AB-13B62BD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241642-6687-44F7-81EF-6CFAF41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4C8C5B-8D89-44A5-A2E6-2E3871E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2B438C-F11A-497E-90CD-052FABD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3E4405-3314-493E-9559-7214999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553DAA-5BA9-44B9-A517-FB3D36B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0D51EB-957F-420F-B5B2-539142E8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4582A0-6A62-4DD1-94BF-74CA70C8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2D0D1B-5C84-4835-B906-75A0D255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0C2341-53BF-467D-931D-A80AF39C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032168-75AE-4374-8F2E-F45594A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3749CB-9DEC-498C-B774-03B30C1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48D7B3-F37A-4144-9FD1-D9430E5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659AEC-608B-4D81-BD7D-690F89CB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155D22-CE12-4065-8A6E-09E3168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719E62-BFF1-4CAD-9EEE-7D79639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56E59A-4FE8-40E8-9568-3037BC2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AD4460-8329-4D74-8125-AA86B6A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84EA8-9D1F-4F13-8122-345FCCE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83B84B-0234-4076-85FD-AADDC684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5498F5-6242-4A92-96E3-AC968C94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4B2153-CCBA-4466-AFEC-04F1F98C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998EE6-2A23-4E1E-927E-87BF9ABD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AA55AA-0CEC-44DE-A39B-2F200D7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59837E-C845-4079-A2D5-173CD92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E7F60B-AFAB-4792-A169-90FB8A1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6C648D-C8C6-435A-AFD9-F69179E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33ED67-C867-457B-B771-1896D6A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0DB2C6-4F99-434D-9B64-3168923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4EED-2FA0-496B-AADE-3797E1EC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02FB1E-1F46-48C1-8A5B-6F47D1C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0C32A7-A1BC-4B16-9D35-29B7CFA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5036B0-702C-439F-82E4-ADAA55C0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0EFF19-E7E2-4B96-A80D-267EBBE4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7E72D9-35F7-4D2F-8A3A-8FAB4667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3C129B-67DF-4306-AE51-E4CC36A0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ECAAD1-56A8-4707-8BE1-AD6FA8B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DA5BDD-58C3-4365-9004-ED67AB7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4B24E5-7E4F-49C3-9AAE-7D16659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40EBE2-3FEE-429A-940D-6F9836C4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B5A1-E603-4F6E-9E4D-F308C6A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618EEF-C6CA-4532-8F96-329DD24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F25614-0E8D-4E5C-9255-F741CC9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6730AC-E403-4B9A-B582-9B11194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370426-6DE2-4A1E-A5B2-239824D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688036-4685-41EC-98DA-0EDE6D0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BD49AC-A2CE-4025-A7E4-71135259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201CC8-50D0-42D5-94B0-ABF09C73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705D1D-D2CA-48A7-8800-8DD9797E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D0C385-3957-4EF5-9056-56295EB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A1F74A-4F98-4B2C-A563-AF5A0A9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AF2C4-EA2F-4075-A4B2-DFB59AF5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9C7679-4FAB-4107-8687-C0E7A817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0A2B03-22BF-4488-A11E-376E4604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8DD86B-E415-4075-B2DC-F59FE680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30EC25-2899-46B6-96C7-D0EB5FD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7C8EA3-4222-4A03-8AB1-CAFD4C7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256701-7F55-4C8B-9544-4BEF21D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C880C3-AEDF-4D99-9B20-A57F0163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7486B9-5BB6-45D5-99A1-8C4B7B6E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7B7A45-8694-4689-9946-D6618B14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6A0B73-6C33-46DE-8E62-27238187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6690-9CF2-4BC1-B327-BF377132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6EEB56-AF4D-4922-96DB-0445B53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F73F94-ADFF-4CE9-ABF7-9698573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7D8D95-9D20-4A39-BD42-45C8F91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BE915A-FE8F-47E1-AA34-0EAE35C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156DEF-BF85-457B-B5DB-2F10B47E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94CD5D-79CE-45B1-A2F4-F25CCE6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181D4C-EBD6-4C8A-9ED9-1C9CD29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699410-F35C-4244-A867-D663DAC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59DE54-5188-4025-A0AB-BD58D91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FB42A8-033E-4287-8180-9BB9C4FC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13B1F-CAB5-4947-94D6-350EDD67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010820-0BD5-4FF9-9431-0C2DE243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79BB8C-BAAC-400E-AF06-F8AEEC0C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92191D-725B-4FD6-9F74-FB20A31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0DB15B-69A6-4209-85EF-6799416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12ED40-93E3-4D2A-807E-B74BADE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975F1D-4935-4332-8EF7-576581EF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BA547C-AF29-437C-9125-3352BEF3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DE9286-58B5-4A29-A06F-015D9A5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411F6A7-ADC8-4FD9-9BE5-2F2A7AE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D16625-7077-4C23-A672-2D631B9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0DF7-4629-4AB3-B104-19E0636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B740F3-B74F-4ADB-A0F8-B52A077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EA2045-4FE4-489A-960B-20E9B217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12F8AE-1103-4D6B-A434-708D00FC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8716C9-0819-4E78-9823-0678BCB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DDB6A2-1AF3-426B-840A-CA93527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0F7B2B5-9096-4ED0-9863-EDB95E9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FE33AB-7ECE-44F2-9B63-9CC65E1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B9B402-1068-4F1F-B0C4-B424627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A87EA2-7E23-4A8F-A6E5-6A9E93C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6E21886-C838-41DC-9DD8-9F53AF3C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193FE-E7CE-467C-AC26-A8AD9D2C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D19B75-68A0-4D28-A05B-C9D4908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0C26345-6731-43BC-8DC7-DF2A659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C6C482B-1EDC-4711-B0A0-D208863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CA1624-B892-4B01-BD0E-A4A60DB5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C71F9E-88DE-41CD-A1F8-79F72045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6545E-E3AF-43E9-BE4D-D5B4E8D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B6C40-D6E4-464D-B6B9-DCDDD5B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44960-9541-4B1C-9F03-BDA5ACFF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B3F3-3E9C-44BB-8012-7405CFC4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2841C-E7E3-421E-AEA0-4D01B108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C9539-CCE5-42FD-A6D4-6C6C8A8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966AF-0A8E-48A8-8209-F9C6AC80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8FDA6-4237-44EE-BC6D-10A31B7B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C1E0A-8886-4C7B-BECF-2C7D430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DAFBB-80C4-466C-8CCF-65490819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FDDF4-12DD-42C0-ACA2-FB3B395F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B395D-5D38-4E27-9126-41F7F1C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32D57-3AC0-48E0-9A75-704B5F8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A252B-3A86-419C-8F97-56DEF559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80A8D-0F2A-4CE9-BD63-2B131FD8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1ED64-D184-4992-B836-A80337E2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FBD56-F6F4-4AA5-9146-B1D4B8F7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2A494-8092-4259-9164-2F44432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EE94D-0D8A-43E5-8BC4-4793B8D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233E4-E7C0-488C-964A-C4FF2CB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9F246-352B-4C52-AD4F-35CC9BE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C5AF9-B453-4398-9440-1BBBD617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FF590-979F-42C2-B9D8-2DE8DC9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A9879-F89D-4B5A-AE40-D7137C46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5FF3D-DEE4-4216-BDCC-C9E334E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2F3F1-0A27-4B6D-9613-C5697CC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37834-1F55-451E-9144-B5B252AE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EA7D2-2652-4816-B1CF-C2EBB339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2C9AC-4AD6-4AB3-BD01-0B60E864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F382D-5B4B-4853-9FF6-C81B247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C9B78-C819-460C-9EA7-7C345AE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60653-CE05-45E3-AC3A-F107452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A0E89-A3A5-4B8D-9C32-7247E0C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E278A-4342-4F09-B99F-F52694F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06430-2AA9-41BB-9E53-9B59AAC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DD5FA-BBC3-4B67-A2D9-B63FA0B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3AB49-BF04-40B6-874F-4E9F4B2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F4691-1449-4F66-AC17-B8FE550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FFDFD-195A-406D-876C-C34A186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FA439-8156-4551-8B25-90D796D7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DC143-20DF-418D-8589-CD7178CE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638DE-323B-4DAB-A8DC-C10A434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911F2-2170-4AD6-9EA4-AD5FAA6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0D59E-0F24-498A-BCA6-0874F0B7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C7E1E-4B53-4503-BA89-BB7B46F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F58C3-1C88-4FA6-A48B-DA89420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B0F81-C5AC-49F2-B7D2-E623565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9DDE6-47DD-45A2-A964-48EBEFD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19605-9365-43FE-A917-B4644C0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DD055-CB51-43F2-BB14-F23872F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E550C-B3A9-4204-A103-ACF32E29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2D45A-FE48-42A3-8A20-E5356FFE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A8D40-FC60-4F38-A29D-667C2C8F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54FAD-E0CF-416A-B5A8-40132CA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3CABD-A5D4-4A5A-8D59-F701687E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79FEF-9794-462C-A8F9-DFD16D6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B6AEB-A3D6-4CEE-9B92-B3C25FC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8BFB9-922C-4A98-92BB-2C62D6CF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D3649-F898-4700-A590-A8ABE3D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55C0A-A31E-4107-9427-9D4A6A5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3F674-01E8-4013-8E16-7CC7BA8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E7AAF-71ED-4CB7-B75F-FD3F691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75971-D1E6-4BC0-83DF-FB42BCFD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C11BF-0D84-4B4C-A545-4BF8105D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7E4DC-E3A1-426F-B6BF-DC1540BF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03806-4B9C-4DC5-B9B9-DA125CC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6E3EE-861B-480F-9EDC-4A5AD65A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47B-2ED4-4686-8603-4CFFADBF821C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dt" idx="24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F33-517D-4983-8BB0-769B28691D11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25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3CD5-FB96-4C57-8164-06598E4B797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dt" idx="27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EA4-80F0-45C4-B391-C024985E9CC2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ftr" idx="28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BB5-E591-4352-92F3-1C433510F14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dt" idx="30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EBEE-2709-49FA-B969-032022FC4145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31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5F3-17CE-46BA-B1EC-4EDCC2304A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dt" idx="3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EDB-A5CC-4F94-9464-488F65005A74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ftr" idx="3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1F2-E738-42AA-AB10-4D60E17D8FF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dt" idx="3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864-9CD8-475D-B9A0-7E9292EBBE20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3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272E-EB2D-45CD-8102-1DE1187C87C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dt" idx="3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E0A-93A5-48CE-82BE-794C589CD9BA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4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41"/>
          </p:nvPr>
        </p:nvSpPr>
        <p:spPr>
          <a:xfrm>
            <a:off x="3276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805-F8AA-44A1-80A6-B38CB73BF97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dt" idx="4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7DD-E8B9-4389-A2D7-FB4F79D770D0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ftr" idx="4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7D4D-157F-4BA8-B319-B852288DCB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dt" idx="4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DA1-DA65-49A6-A2F5-97DD771EF138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ftr" idx="4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174-1955-4767-BBF0-F9329B2AF8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dt" idx="48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AEFD-2BF1-49F8-ABC9-3874CF8FF167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49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8A8-56DE-4B45-A5C0-AAB8DEE47E1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dt" idx="5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CAE-4349-474A-B2B9-AE6E9A0D9E21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ftr" idx="5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D86-91CA-405E-B3FA-5A3A17B8A14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pic>
        <p:nvPicPr>
          <p:cNvPr id="40" name="Прямоугольник 4" descr=""/>
          <p:cNvPicPr/>
          <p:nvPr/>
        </p:nvPicPr>
        <p:blipFill>
          <a:blip r:embed="rId3"/>
          <a:stretch/>
        </p:blipFill>
        <p:spPr>
          <a:xfrm>
            <a:off x="-42840" y="6400800"/>
            <a:ext cx="9266040" cy="530280"/>
          </a:xfrm>
          <a:prstGeom prst="rect">
            <a:avLst/>
          </a:prstGeom>
          <a:ln w="0">
            <a:noFill/>
          </a:ln>
        </p:spPr>
      </p:pic>
      <p:grpSp>
        <p:nvGrpSpPr>
          <p:cNvPr id="41" name="Группа 7"/>
          <p:cNvGrpSpPr/>
          <p:nvPr/>
        </p:nvGrpSpPr>
        <p:grpSpPr>
          <a:xfrm>
            <a:off x="14400" y="0"/>
            <a:ext cx="9107280" cy="1357200"/>
            <a:chOff x="14400" y="0"/>
            <a:chExt cx="9107280" cy="135720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4400" y="0"/>
              <a:ext cx="910728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9" descr="lotsia_software_logo_179x158.gif"/>
            <p:cNvPicPr/>
            <p:nvPr/>
          </p:nvPicPr>
          <p:blipFill>
            <a:blip r:embed="rId5"/>
            <a:stretch/>
          </p:blipFill>
          <p:spPr>
            <a:xfrm>
              <a:off x="115920" y="49320"/>
              <a:ext cx="1504440" cy="121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dt" idx="54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ADF4-0117-4D28-A013-27592C785FB4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ftr" idx="55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96F-7114-44E2-A896-81126EEFB78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dt" idx="57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прель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ftr" idx="58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08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59"/>
          </p:nvPr>
        </p:nvSpPr>
        <p:spPr>
          <a:xfrm>
            <a:off x="3276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AB18-39AA-43A3-A09C-BE33978DC85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dt" idx="60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1CA-BFD8-405A-8B2F-EE86FD8B7D9C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61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015-DAD0-4379-97D4-B8CFA3B65E5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dt" idx="6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A03-F069-4042-B48E-B866E9193E57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ftr" idx="6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56F-15FD-431B-A366-8994C10E185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dt" idx="6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DEA5-B247-4622-8A24-91B459BD9E5B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6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9E9-A81F-42EF-9055-E94B7BCB62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dt" idx="6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6AE5-C5E4-43D5-A575-D4E87892712A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ftr" idx="7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3CF-ACED-412D-8BC6-E862EB89FF3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dt" idx="7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D9C-B5BB-4A2B-BDA7-F68E3D8F6B97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ftr" idx="7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3B7-EC71-49D1-814B-67FA0D5EC43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dt" idx="7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86B-2FB4-4DFA-A898-A03AD313A959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ftr" idx="7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685-3FA3-4E6C-B5A4-B251F3203E4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1D3-0241-4A47-B3F3-E925C87CD98D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3DD-0575-43C9-A315-40B12721CB7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78C1-0CEA-4505-B4E4-E4AE05A49CC4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CCC3-B3FB-4E55-8A76-DEB715EE88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F6B-6446-4805-A509-AA9A46C0A4EB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7C8-4AF9-424B-9836-6DEB883FBAF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dt" idx="1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2C9-1A25-4F9F-B3CE-1BC8355F3285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CDCA-9C7A-4AF8-9ED4-109C82A940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dt" idx="1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5F4F-ED22-4599-BCA2-1CBCFAEE8FC0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6B9D-945C-45AE-AF3C-26F79D6D6C5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dt" idx="18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2EA-0DBC-4F9A-ACCF-1E415942A9F4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9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BBF-F2ED-482B-B282-B668C0278AB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2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CEE-B834-4C5D-8AD8-C1A483D0E86F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2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ECC-9D3B-4B8A-B4D8-F9D39893112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Общий обзор функциональности и решаемых зада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5722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Основные задачи</a:t>
            </a:r>
            <a:br>
              <a:rPr sz="3600"/>
            </a:b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8000" y="1557000"/>
            <a:ext cx="892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ить входные данные в виде описательной части и фай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ить данные от несанкционированного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ировать данные в привычном виде и в соответствии с внутренними и отраслевыми стандартами (СПДС, ЕСКД, ЕСПД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шрутизировать документы между исполнителями (документооборот): придание официального статуса документам, проведение изменений, рассылка входящей корреспонденции, приказов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дить – просмотр связей, изме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– по любым критер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ть найденное – скопировать, позаимствовать, применить как типовой 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ть выходные данные – аналитические отчеты по загрузке подразделений и исполнителей , различные перечни, квартальные пла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156-A05B-427B-A755-CC2902749BC2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2" descr=""/>
          <p:cNvPicPr/>
          <p:nvPr/>
        </p:nvPicPr>
        <p:blipFill>
          <a:blip r:embed="rId1"/>
          <a:stretch/>
        </p:blipFill>
        <p:spPr>
          <a:xfrm>
            <a:off x="5056200" y="4570560"/>
            <a:ext cx="4073400" cy="188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7" descr="snap"/>
          <p:cNvPicPr/>
          <p:nvPr/>
        </p:nvPicPr>
        <p:blipFill>
          <a:blip r:embed="rId2"/>
          <a:stretch/>
        </p:blipFill>
        <p:spPr>
          <a:xfrm>
            <a:off x="5056200" y="843120"/>
            <a:ext cx="4052880" cy="339696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0120" y="1557360"/>
            <a:ext cx="499572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ые формы ввод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лючение повторного в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справ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Заголовок 1"/>
          <p:cNvSpPr/>
          <p:nvPr/>
        </p:nvSpPr>
        <p:spPr>
          <a:xfrm>
            <a:off x="1692360" y="928800"/>
            <a:ext cx="309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5" name="Picture 13" descr=""/>
          <p:cNvPicPr/>
          <p:nvPr/>
        </p:nvPicPr>
        <p:blipFill>
          <a:blip r:embed="rId3"/>
          <a:stretch/>
        </p:blipFill>
        <p:spPr>
          <a:xfrm>
            <a:off x="60480" y="3078000"/>
            <a:ext cx="4724280" cy="3284640"/>
          </a:xfrm>
          <a:prstGeom prst="rect">
            <a:avLst/>
          </a:prstGeom>
          <a:ln w="0">
            <a:noFill/>
          </a:ln>
        </p:spPr>
      </p:pic>
      <p:sp>
        <p:nvSpPr>
          <p:cNvPr id="1156" name="TextBox 8"/>
          <p:cNvSpPr/>
          <p:nvPr/>
        </p:nvSpPr>
        <p:spPr>
          <a:xfrm>
            <a:off x="6084720" y="4121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прав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6"/>
          <p:cNvSpPr/>
          <p:nvPr/>
        </p:nvSpPr>
        <p:spPr>
          <a:xfrm>
            <a:off x="3776760" y="63514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Стрелка вправо 31"/>
          <p:cNvSpPr/>
          <p:nvPr/>
        </p:nvSpPr>
        <p:spPr>
          <a:xfrm rot="18372000">
            <a:off x="5710320" y="5482800"/>
            <a:ext cx="1785960" cy="515880"/>
          </a:xfrm>
          <a:prstGeom prst="rightArrow">
            <a:avLst>
              <a:gd name="adj1" fmla="val 50000"/>
              <a:gd name="adj2" fmla="val 50006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Стрелка влево 3"/>
          <p:cNvSpPr/>
          <p:nvPr/>
        </p:nvSpPr>
        <p:spPr>
          <a:xfrm rot="370200">
            <a:off x="3203280" y="3938400"/>
            <a:ext cx="2819160" cy="492120"/>
          </a:xfrm>
          <a:prstGeom prst="leftArrow">
            <a:avLst>
              <a:gd name="adj1" fmla="val 50000"/>
              <a:gd name="adj2" fmla="val 49993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Стрелка вниз 5"/>
          <p:cNvSpPr/>
          <p:nvPr/>
        </p:nvSpPr>
        <p:spPr>
          <a:xfrm rot="2742600">
            <a:off x="5506200" y="4378680"/>
            <a:ext cx="439920" cy="984240"/>
          </a:xfrm>
          <a:prstGeom prst="downArrow">
            <a:avLst>
              <a:gd name="adj1" fmla="val 50000"/>
              <a:gd name="adj2" fmla="val 49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Стрелка влево 15"/>
          <p:cNvSpPr/>
          <p:nvPr/>
        </p:nvSpPr>
        <p:spPr>
          <a:xfrm rot="5400000">
            <a:off x="6503760" y="3379680"/>
            <a:ext cx="927000" cy="466920"/>
          </a:xfrm>
          <a:prstGeom prst="leftArrow">
            <a:avLst>
              <a:gd name="adj1" fmla="val 50000"/>
              <a:gd name="adj2" fmla="val 49974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A45-8940-4901-AE19-D6DF7382941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106200" y="1557000"/>
            <a:ext cx="461016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предпочтений различных пользователей (цвет форм, шрифты, способы редактирования по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Рисунок 9" descr="Snap1.jpg"/>
          <p:cNvPicPr/>
          <p:nvPr/>
        </p:nvPicPr>
        <p:blipFill>
          <a:blip r:embed="rId1"/>
          <a:stretch/>
        </p:blipFill>
        <p:spPr>
          <a:xfrm>
            <a:off x="4716360" y="2143080"/>
            <a:ext cx="4372200" cy="39387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3" descr=""/>
          <p:cNvPicPr/>
          <p:nvPr/>
        </p:nvPicPr>
        <p:blipFill>
          <a:blip r:embed="rId2"/>
          <a:stretch/>
        </p:blipFill>
        <p:spPr>
          <a:xfrm>
            <a:off x="49320" y="3349800"/>
            <a:ext cx="4610160" cy="2743200"/>
          </a:xfrm>
          <a:prstGeom prst="rect">
            <a:avLst/>
          </a:prstGeom>
          <a:ln w="0">
            <a:noFill/>
          </a:ln>
        </p:spPr>
      </p:pic>
      <p:sp>
        <p:nvSpPr>
          <p:cNvPr id="1167" name="Заголовок 1"/>
          <p:cNvSpPr/>
          <p:nvPr/>
        </p:nvSpPr>
        <p:spPr>
          <a:xfrm>
            <a:off x="1692360" y="928800"/>
            <a:ext cx="287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Номер слайда 5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CFB-DA89-4F54-B04C-53B237CBCA0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Заголовок 1"/>
          <p:cNvSpPr/>
          <p:nvPr/>
        </p:nvSpPr>
        <p:spPr>
          <a:xfrm>
            <a:off x="1692360" y="928800"/>
            <a:ext cx="3166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1" name="Picture 7" descr="snap"/>
          <p:cNvPicPr/>
          <p:nvPr/>
        </p:nvPicPr>
        <p:blipFill>
          <a:blip r:embed="rId1"/>
          <a:stretch/>
        </p:blipFill>
        <p:spPr>
          <a:xfrm>
            <a:off x="71280" y="3497400"/>
            <a:ext cx="7453440" cy="3335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5" descr="_Pict"/>
          <p:cNvPicPr/>
          <p:nvPr/>
        </p:nvPicPr>
        <p:blipFill>
          <a:blip r:embed="rId2"/>
          <a:stretch/>
        </p:blipFill>
        <p:spPr>
          <a:xfrm>
            <a:off x="5003640" y="907920"/>
            <a:ext cx="4059360" cy="358488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106200" y="1557000"/>
            <a:ext cx="461016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предпочтений различных пользователей (цвет форм, шрифты, способы редактирования по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Номер слайда 5"/>
          <p:cNvSpPr/>
          <p:nvPr/>
        </p:nvSpPr>
        <p:spPr>
          <a:xfrm>
            <a:off x="7524720" y="64483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FFF2-A2F3-4E17-847F-296879904CE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6600" y="141264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ое создание комплектов документов, возможность пакетного ввод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7" name="Picture 14" descr=""/>
          <p:cNvPicPr/>
          <p:nvPr/>
        </p:nvPicPr>
        <p:blipFill>
          <a:blip r:embed="rId1"/>
          <a:stretch/>
        </p:blipFill>
        <p:spPr>
          <a:xfrm>
            <a:off x="34920" y="3213000"/>
            <a:ext cx="4467240" cy="316872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5" descr=""/>
          <p:cNvPicPr/>
          <p:nvPr/>
        </p:nvPicPr>
        <p:blipFill>
          <a:blip r:embed="rId2"/>
          <a:stretch/>
        </p:blipFill>
        <p:spPr>
          <a:xfrm>
            <a:off x="4675320" y="2349360"/>
            <a:ext cx="4468680" cy="3167280"/>
          </a:xfrm>
          <a:prstGeom prst="rect">
            <a:avLst/>
          </a:prstGeom>
          <a:ln w="0">
            <a:noFill/>
          </a:ln>
        </p:spPr>
      </p:pic>
      <p:sp>
        <p:nvSpPr>
          <p:cNvPr id="1179" name="Стрелка вниз 3"/>
          <p:cNvSpPr/>
          <p:nvPr/>
        </p:nvSpPr>
        <p:spPr>
          <a:xfrm rot="1369200">
            <a:off x="2333520" y="2101680"/>
            <a:ext cx="484200" cy="3198960"/>
          </a:xfrm>
          <a:prstGeom prst="down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Стрелка вниз 12"/>
          <p:cNvSpPr/>
          <p:nvPr/>
        </p:nvSpPr>
        <p:spPr>
          <a:xfrm rot="19632600">
            <a:off x="4193640" y="2046240"/>
            <a:ext cx="484200" cy="2735280"/>
          </a:xfrm>
          <a:prstGeom prst="downArrow">
            <a:avLst>
              <a:gd name="adj1" fmla="val 50000"/>
              <a:gd name="adj2" fmla="val 5000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Заголовок 1"/>
          <p:cNvSpPr/>
          <p:nvPr/>
        </p:nvSpPr>
        <p:spPr>
          <a:xfrm>
            <a:off x="1692360" y="928800"/>
            <a:ext cx="2744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96C-47B2-4972-AC68-768113DA16D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8" descr="snap"/>
          <p:cNvPicPr/>
          <p:nvPr/>
        </p:nvPicPr>
        <p:blipFill>
          <a:blip r:embed="rId1"/>
          <a:stretch/>
        </p:blipFill>
        <p:spPr>
          <a:xfrm>
            <a:off x="-247680" y="2808360"/>
            <a:ext cx="9410760" cy="402912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Заголовок 1"/>
          <p:cNvSpPr/>
          <p:nvPr/>
        </p:nvSpPr>
        <p:spPr>
          <a:xfrm>
            <a:off x="1403280" y="901800"/>
            <a:ext cx="3529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Электронный арх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Содержимое 2"/>
          <p:cNvSpPr/>
          <p:nvPr/>
        </p:nvSpPr>
        <p:spPr>
          <a:xfrm>
            <a:off x="71280" y="1341360"/>
            <a:ext cx="4332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ые типы документов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ов (модели, чертежи, текстовые документы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Picture 6" descr="_Pict"/>
          <p:cNvPicPr/>
          <p:nvPr/>
        </p:nvPicPr>
        <p:blipFill>
          <a:blip r:embed="rId2"/>
          <a:stretch/>
        </p:blipFill>
        <p:spPr>
          <a:xfrm>
            <a:off x="20520" y="2592360"/>
            <a:ext cx="5685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2" descr="snap"/>
          <p:cNvPicPr/>
          <p:nvPr/>
        </p:nvPicPr>
        <p:blipFill>
          <a:blip r:embed="rId3"/>
          <a:stretch/>
        </p:blipFill>
        <p:spPr>
          <a:xfrm>
            <a:off x="4718160" y="914400"/>
            <a:ext cx="4427280" cy="2693880"/>
          </a:xfrm>
          <a:prstGeom prst="rect">
            <a:avLst/>
          </a:prstGeom>
          <a:ln w="0">
            <a:noFill/>
          </a:ln>
        </p:spPr>
      </p:pic>
      <p:sp>
        <p:nvSpPr>
          <p:cNvPr id="118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7446-FF54-47D1-8D4C-5031BE25B17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Группа 3"/>
          <p:cNvGrpSpPr/>
          <p:nvPr/>
        </p:nvGrpSpPr>
        <p:grpSpPr>
          <a:xfrm>
            <a:off x="5751360" y="2347920"/>
            <a:ext cx="3311640" cy="2665440"/>
            <a:chOff x="5751360" y="2347920"/>
            <a:chExt cx="3311640" cy="2665440"/>
          </a:xfrm>
        </p:grpSpPr>
        <p:pic>
          <p:nvPicPr>
            <p:cNvPr id="1191" name="Рисунок 6" descr="Snap1.jpg"/>
            <p:cNvPicPr/>
            <p:nvPr/>
          </p:nvPicPr>
          <p:blipFill>
            <a:blip r:embed="rId1"/>
            <a:stretch/>
          </p:blipFill>
          <p:spPr>
            <a:xfrm>
              <a:off x="5751360" y="2347920"/>
              <a:ext cx="33116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Овал 7"/>
            <p:cNvSpPr/>
            <p:nvPr/>
          </p:nvSpPr>
          <p:spPr>
            <a:xfrm>
              <a:off x="6001920" y="4475160"/>
              <a:ext cx="900000" cy="49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22320" y="1368000"/>
            <a:ext cx="67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ция с приложениями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desk AutoC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вертикальными решениями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, Bentley MicroStation, SolidWorks, MS Project, MS Word, MS Excel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ни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текстовый поис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 Search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ЦП Крипто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ция со  ска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тандартная» интег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 в архив, открытие, версионность, синхронизация полей карточек и документов, распознавание структуры модели, обеспечение ссылочной целос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 использова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T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ля хранения фай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порт из внешних источников и баз дан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ь с внешним миром: собственный клиент внешней электронной поч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Заголовок 1"/>
          <p:cNvSpPr/>
          <p:nvPr/>
        </p:nvSpPr>
        <p:spPr>
          <a:xfrm>
            <a:off x="1403280" y="901800"/>
            <a:ext cx="3529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Электронный арх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E702-3BCA-4803-BFB5-735DBDA8D59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14400" y="1412640"/>
            <a:ext cx="8805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карточек документов электронными подпис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интеграции с системами ЭЦ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8" name="Picture 8" descr="_Pict"/>
          <p:cNvPicPr/>
          <p:nvPr/>
        </p:nvPicPr>
        <p:blipFill>
          <a:blip r:embed="rId1"/>
          <a:stretch/>
        </p:blipFill>
        <p:spPr>
          <a:xfrm>
            <a:off x="5364000" y="2122560"/>
            <a:ext cx="3780000" cy="137772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1" descr="snap"/>
          <p:cNvPicPr/>
          <p:nvPr/>
        </p:nvPicPr>
        <p:blipFill>
          <a:blip r:embed="rId2"/>
          <a:stretch/>
        </p:blipFill>
        <p:spPr>
          <a:xfrm>
            <a:off x="14400" y="2165400"/>
            <a:ext cx="4680000" cy="291924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0" descr="snap"/>
          <p:cNvPicPr/>
          <p:nvPr/>
        </p:nvPicPr>
        <p:blipFill>
          <a:blip r:embed="rId3"/>
          <a:stretch/>
        </p:blipFill>
        <p:spPr>
          <a:xfrm>
            <a:off x="34920" y="3941640"/>
            <a:ext cx="3959280" cy="31593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9" descr="_snap"/>
          <p:cNvPicPr/>
          <p:nvPr/>
        </p:nvPicPr>
        <p:blipFill>
          <a:blip r:embed="rId4"/>
          <a:stretch/>
        </p:blipFill>
        <p:spPr>
          <a:xfrm>
            <a:off x="3995640" y="3508200"/>
            <a:ext cx="5148360" cy="20084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6" descr="_Pict"/>
          <p:cNvPicPr/>
          <p:nvPr/>
        </p:nvPicPr>
        <p:blipFill>
          <a:blip r:embed="rId5"/>
          <a:stretch/>
        </p:blipFill>
        <p:spPr>
          <a:xfrm>
            <a:off x="3600360" y="5546880"/>
            <a:ext cx="5508720" cy="1266840"/>
          </a:xfrm>
          <a:prstGeom prst="rect">
            <a:avLst/>
          </a:prstGeom>
          <a:ln w="0">
            <a:noFill/>
          </a:ln>
        </p:spPr>
      </p:pic>
      <p:sp>
        <p:nvSpPr>
          <p:cNvPr id="120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9D1-9D32-4681-A1E8-F8F1D5FCF6C2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дписание докум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71760" y="189000"/>
            <a:ext cx="7387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Защита от несанкционированного до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 Box 4"/>
          <p:cNvSpPr/>
          <p:nvPr/>
        </p:nvSpPr>
        <p:spPr>
          <a:xfrm>
            <a:off x="108000" y="1484280"/>
            <a:ext cx="878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ЬНОЕ разграничение прав доступа к объектам, файлам документов и верс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зрачно для конечного польз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динамического назначения пра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ледование прав дост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шаблонов пра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7" name="Picture 7" descr="snap"/>
          <p:cNvPicPr/>
          <p:nvPr/>
        </p:nvPicPr>
        <p:blipFill>
          <a:blip r:embed="rId1"/>
          <a:stretch/>
        </p:blipFill>
        <p:spPr>
          <a:xfrm>
            <a:off x="4067280" y="3325680"/>
            <a:ext cx="5076720" cy="34880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9" descr="snap"/>
          <p:cNvPicPr/>
          <p:nvPr/>
        </p:nvPicPr>
        <p:blipFill>
          <a:blip r:embed="rId2"/>
          <a:stretch/>
        </p:blipFill>
        <p:spPr>
          <a:xfrm>
            <a:off x="33480" y="4064040"/>
            <a:ext cx="3995640" cy="2749680"/>
          </a:xfrm>
          <a:prstGeom prst="rect">
            <a:avLst/>
          </a:prstGeom>
          <a:ln w="0">
            <a:noFill/>
          </a:ln>
        </p:spPr>
      </p:pic>
      <p:sp>
        <p:nvSpPr>
          <p:cNvPr id="120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5A5E-4A40-4F58-B821-554B2589F26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Удобное структурирование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108000" y="1413000"/>
            <a:ext cx="27352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популярное представление данных – иерарх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спечивает практически неограниченные возможности по иерархическому представлению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Picture 2" descr=""/>
          <p:cNvPicPr/>
          <p:nvPr/>
        </p:nvPicPr>
        <p:blipFill>
          <a:blip r:embed="rId1"/>
          <a:stretch/>
        </p:blipFill>
        <p:spPr>
          <a:xfrm>
            <a:off x="3041640" y="1413000"/>
            <a:ext cx="6062760" cy="4968720"/>
          </a:xfrm>
          <a:prstGeom prst="rect">
            <a:avLst/>
          </a:prstGeom>
          <a:ln w="0">
            <a:noFill/>
          </a:ln>
        </p:spPr>
      </p:pic>
      <p:sp>
        <p:nvSpPr>
          <p:cNvPr id="121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7654-C57F-4302-B5E1-AD6C3E2840B2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раткая информация о компани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«Лоция Соф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зависимая российская комп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1997 г. разработка и внедрение программы управления данными, электронного архива и документообо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большая, но высокопрофессиональ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 предприятий-пользователей из 28 различных отрас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альное наличие работающих крупных внедр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е число внедрений в проектных организ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B4CA-9860-4A2B-8A94-028652ADED9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бственный генератор отчё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108000" y="1413000"/>
            <a:ext cx="4816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ое представление данных – таблицы, диаграммы, граф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5209-C188-4833-AC45-7848EB0E55B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Picture 3" descr="S:\Dmitry\_\5_3 Отчет с графиком.jpg"/>
          <p:cNvPicPr/>
          <p:nvPr/>
        </p:nvPicPr>
        <p:blipFill>
          <a:blip r:embed="rId1"/>
          <a:stretch/>
        </p:blipFill>
        <p:spPr>
          <a:xfrm>
            <a:off x="4924440" y="1413000"/>
            <a:ext cx="4176720" cy="19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18" name="Picture 2" descr=""/>
          <p:cNvPicPr/>
          <p:nvPr/>
        </p:nvPicPr>
        <p:blipFill>
          <a:blip r:embed="rId2"/>
          <a:stretch/>
        </p:blipFill>
        <p:spPr>
          <a:xfrm>
            <a:off x="-3240" y="3044880"/>
            <a:ext cx="6345360" cy="3795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219" name="Picture 2" descr="S:\Dmitry\_\5_2 Отчет с графиком.jpg"/>
          <p:cNvPicPr/>
          <p:nvPr/>
        </p:nvPicPr>
        <p:blipFill>
          <a:blip r:embed="rId3"/>
          <a:stretch/>
        </p:blipFill>
        <p:spPr>
          <a:xfrm>
            <a:off x="3298680" y="4494240"/>
            <a:ext cx="5845320" cy="2319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Документо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34560" y="1412640"/>
            <a:ext cx="91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зуальное составление маршрутов любой сложности, в том числе с распараллелива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устойчивой повторяемости (соблюд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шрутизация как документов, так и заданий (потоков раб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ческое назначение прав доступа по ходу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Picture 4" descr="_Pict"/>
          <p:cNvPicPr/>
          <p:nvPr/>
        </p:nvPicPr>
        <p:blipFill>
          <a:blip r:embed="rId1"/>
          <a:stretch/>
        </p:blipFill>
        <p:spPr>
          <a:xfrm>
            <a:off x="-30240" y="2882880"/>
            <a:ext cx="6481800" cy="400212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Шаблон входкорр"/>
          <p:cNvPicPr/>
          <p:nvPr/>
        </p:nvPicPr>
        <p:blipFill>
          <a:blip r:embed="rId2"/>
          <a:stretch/>
        </p:blipFill>
        <p:spPr>
          <a:xfrm>
            <a:off x="4572000" y="3408480"/>
            <a:ext cx="4572000" cy="3395520"/>
          </a:xfrm>
          <a:prstGeom prst="rect">
            <a:avLst/>
          </a:prstGeom>
          <a:ln w="0">
            <a:noFill/>
          </a:ln>
        </p:spPr>
      </p:pic>
      <p:sp>
        <p:nvSpPr>
          <p:cNvPr id="122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DF0-F474-4D51-90A2-86CC0B9A7DA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Документо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 испол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ок текущи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на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Picture 6" descr="snap"/>
          <p:cNvPicPr/>
          <p:nvPr/>
        </p:nvPicPr>
        <p:blipFill>
          <a:blip r:embed="rId1"/>
          <a:stretch/>
        </p:blipFill>
        <p:spPr>
          <a:xfrm>
            <a:off x="6480" y="2550960"/>
            <a:ext cx="9123120" cy="24307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7" descr="snap"/>
          <p:cNvPicPr/>
          <p:nvPr/>
        </p:nvPicPr>
        <p:blipFill>
          <a:blip r:embed="rId2"/>
          <a:stretch/>
        </p:blipFill>
        <p:spPr>
          <a:xfrm>
            <a:off x="17640" y="5099040"/>
            <a:ext cx="9099360" cy="1444680"/>
          </a:xfrm>
          <a:prstGeom prst="rect">
            <a:avLst/>
          </a:prstGeom>
          <a:ln w="0">
            <a:noFill/>
          </a:ln>
        </p:spPr>
      </p:pic>
      <p:sp>
        <p:nvSpPr>
          <p:cNvPr id="122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A97-78D2-444E-ABF3-4517C57CFC3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Управ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проектны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данны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TextBox 10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659-499C-43B3-BCCA-AEB325066A0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Учёт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подхода к организации учёта прое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еддоговорной стадии (например, от тендера). Сначала регистрируются преддоговорные отношения. Договор может не заключаться, проектные работы не выполняться, но информация о несостоявшемся заказе и коммерческом предложении оста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оекта. Сначала регистрируется проект. Договорная документация может не учитываться или добавляться в проект позже – для уч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егистрация нов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320" y="1426680"/>
            <a:ext cx="9001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тся минимально достаточная информ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4B8-DD8D-46DC-8F4C-1B4B51751B5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3" descr=""/>
          <p:cNvPicPr/>
          <p:nvPr/>
        </p:nvPicPr>
        <p:blipFill>
          <a:blip r:embed="rId1"/>
          <a:stretch/>
        </p:blipFill>
        <p:spPr>
          <a:xfrm>
            <a:off x="3227400" y="2335320"/>
            <a:ext cx="5902200" cy="4103640"/>
          </a:xfrm>
          <a:prstGeom prst="rect">
            <a:avLst/>
          </a:prstGeom>
          <a:ln w="0">
            <a:noFill/>
          </a:ln>
        </p:spPr>
      </p:pic>
      <p:sp>
        <p:nvSpPr>
          <p:cNvPr id="1240" name="Содержимое 2"/>
          <p:cNvSpPr/>
          <p:nvPr/>
        </p:nvSpPr>
        <p:spPr>
          <a:xfrm>
            <a:off x="4680" y="2017800"/>
            <a:ext cx="32353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раг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труд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кты проек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1" name="Прямая со стрелкой 9"/>
          <p:cNvCxnSpPr/>
          <p:nvPr/>
        </p:nvCxnSpPr>
        <p:spPr>
          <a:xfrm flipV="1">
            <a:off x="2528640" y="3585960"/>
            <a:ext cx="1972440" cy="86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42" name="Прямая со стрелкой 10"/>
          <p:cNvCxnSpPr/>
          <p:nvPr/>
        </p:nvCxnSpPr>
        <p:spPr>
          <a:xfrm flipV="1">
            <a:off x="2352600" y="3242880"/>
            <a:ext cx="4658400" cy="945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34560" y="1427040"/>
            <a:ext cx="91090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 разделов проекта может вводиться лично ГИПом (помощником ГИПа) или сотрудником  архивного подразд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е механизмы ввода данных по составу проекта – поштучный, пакетный, импорт из файлов и баз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ые визуальные группировки документации – по разделам, по разделам и томам, по том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ые разрезы хранения сгруппированной документации – по объектам проектирования, по договорам, по заказчикам, по года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A27-9870-43F1-81AE-6657A5F2095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34560" y="1426680"/>
            <a:ext cx="5970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СЗИК, г. Санкт-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8" name="Picture 2" descr=""/>
          <p:cNvPicPr/>
          <p:nvPr/>
        </p:nvPicPr>
        <p:blipFill>
          <a:blip r:embed="rId1"/>
          <a:stretch/>
        </p:blipFill>
        <p:spPr>
          <a:xfrm>
            <a:off x="31680" y="2104920"/>
            <a:ext cx="5619960" cy="4297320"/>
          </a:xfrm>
          <a:prstGeom prst="rect">
            <a:avLst/>
          </a:prstGeom>
          <a:ln w="0">
            <a:noFill/>
          </a:ln>
        </p:spPr>
      </p:pic>
      <p:pic>
        <p:nvPicPr>
          <p:cNvPr id="1249" name="Рисунок 1" descr=""/>
          <p:cNvPicPr/>
          <p:nvPr/>
        </p:nvPicPr>
        <p:blipFill>
          <a:blip r:embed="rId2"/>
          <a:stretch/>
        </p:blipFill>
        <p:spPr>
          <a:xfrm>
            <a:off x="6005520" y="1398600"/>
            <a:ext cx="3103560" cy="5415120"/>
          </a:xfrm>
          <a:prstGeom prst="rect">
            <a:avLst/>
          </a:prstGeom>
          <a:ln w="0">
            <a:noFill/>
          </a:ln>
        </p:spPr>
      </p:pic>
      <p:sp>
        <p:nvSpPr>
          <p:cNvPr id="125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D03-24C4-4AE3-A90A-6CA2B296C5D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1" name="Object 431"/>
          <p:cNvGraphicFramePr/>
          <p:nvPr/>
        </p:nvGraphicFramePr>
        <p:xfrm>
          <a:off x="33480" y="1341360"/>
          <a:ext cx="6657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2" name="Object 4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" y="1341360"/>
                    <a:ext cx="6657840" cy="3672000"/>
                  </a:xfrm>
                  <a:prstGeom prst="rect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3" name="Содержимое 2"/>
          <p:cNvSpPr/>
          <p:nvPr/>
        </p:nvSpPr>
        <p:spPr>
          <a:xfrm>
            <a:off x="71280" y="5013360"/>
            <a:ext cx="3637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ТюменНИИгипрогаз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Тюм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4" name="Object 432"/>
          <p:cNvGraphicFramePr/>
          <p:nvPr/>
        </p:nvGraphicFramePr>
        <p:xfrm>
          <a:off x="3924360" y="1916280"/>
          <a:ext cx="3917880" cy="40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Object 4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916280"/>
                    <a:ext cx="3917880" cy="4090680"/>
                  </a:xfrm>
                  <a:prstGeom prst="rect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6" name="Object 433"/>
          <p:cNvGraphicFramePr/>
          <p:nvPr/>
        </p:nvGraphicFramePr>
        <p:xfrm>
          <a:off x="5727600" y="3208320"/>
          <a:ext cx="3381480" cy="353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7" name="Object 4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7600" y="3208320"/>
                    <a:ext cx="3381480" cy="35337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C835-F742-4E53-9C7A-AA934245417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4" descr="_Pict"/>
          <p:cNvPicPr/>
          <p:nvPr/>
        </p:nvPicPr>
        <p:blipFill>
          <a:blip r:embed="rId1"/>
          <a:stretch/>
        </p:blipFill>
        <p:spPr>
          <a:xfrm>
            <a:off x="20520" y="2276640"/>
            <a:ext cx="9123480" cy="4032000"/>
          </a:xfrm>
          <a:prstGeom prst="rect">
            <a:avLst/>
          </a:prstGeom>
          <a:ln w="0">
            <a:noFill/>
          </a:ln>
        </p:spPr>
      </p:pic>
      <p:sp>
        <p:nvSpPr>
          <p:cNvPr id="1261" name="Содержимое 2"/>
          <p:cNvSpPr/>
          <p:nvPr/>
        </p:nvSpPr>
        <p:spPr>
          <a:xfrm>
            <a:off x="71280" y="1365120"/>
            <a:ext cx="90727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кторская документация в состав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A868-AD70-4146-8ED9-9833F12F442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41160" y="333360"/>
            <a:ext cx="7388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омпоненты решения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L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9"/>
          <p:cNvGrpSpPr/>
          <p:nvPr/>
        </p:nvGrpSpPr>
        <p:grpSpPr>
          <a:xfrm>
            <a:off x="1194480" y="1125360"/>
            <a:ext cx="7786440" cy="5399280"/>
            <a:chOff x="1194480" y="1125360"/>
            <a:chExt cx="7786440" cy="5399280"/>
          </a:xfrm>
        </p:grpSpPr>
        <p:grpSp>
          <p:nvGrpSpPr>
            <p:cNvPr id="1097" name="Group 38"/>
            <p:cNvGrpSpPr/>
            <p:nvPr/>
          </p:nvGrpSpPr>
          <p:grpSpPr>
            <a:xfrm>
              <a:off x="1194480" y="1125360"/>
              <a:ext cx="7786440" cy="5399280"/>
              <a:chOff x="1194480" y="1125360"/>
              <a:chExt cx="7786440" cy="5399280"/>
            </a:xfrm>
          </p:grpSpPr>
          <p:sp>
            <p:nvSpPr>
              <p:cNvPr id="1098" name="AutoShape 5"/>
              <p:cNvSpPr/>
              <p:nvPr/>
            </p:nvSpPr>
            <p:spPr>
              <a:xfrm>
                <a:off x="1908000" y="1125360"/>
                <a:ext cx="5328000" cy="5399280"/>
              </a:xfrm>
              <a:prstGeom prst="pi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99" name="Group 6"/>
              <p:cNvGrpSpPr/>
              <p:nvPr/>
            </p:nvGrpSpPr>
            <p:grpSpPr>
              <a:xfrm>
                <a:off x="1194480" y="1219320"/>
                <a:ext cx="6546240" cy="5105160"/>
                <a:chOff x="1194480" y="1219320"/>
                <a:chExt cx="6546240" cy="510516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76720" y="3429000"/>
                  <a:ext cx="4530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Calibri"/>
                    </a:rPr>
                    <a:t>PLM – Product Lifecycle Management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AutoShape 10"/>
                <p:cNvSpPr/>
                <p:nvPr/>
              </p:nvSpPr>
              <p:spPr>
                <a:xfrm>
                  <a:off x="2025720" y="1219320"/>
                  <a:ext cx="5105160" cy="51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Freeform 11"/>
                <p:cNvSpPr/>
                <p:nvPr/>
              </p:nvSpPr>
              <p:spPr>
                <a:xfrm>
                  <a:off x="2168640" y="1325520"/>
                  <a:ext cx="4811760" cy="4917960"/>
                </a:xfrm>
                <a:prstGeom prst="pie">
                  <a:avLst/>
                </a:prstGeom>
                <a:solidFill>
                  <a:srgbClr val="75c5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Freeform 12"/>
                <p:cNvSpPr/>
                <p:nvPr/>
              </p:nvSpPr>
              <p:spPr>
                <a:xfrm>
                  <a:off x="2168640" y="1325520"/>
                  <a:ext cx="4811760" cy="49179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Freeform 14"/>
                <p:cNvSpPr/>
                <p:nvPr/>
              </p:nvSpPr>
              <p:spPr>
                <a:xfrm>
                  <a:off x="2513160" y="1676520"/>
                  <a:ext cx="4124160" cy="4216320"/>
                </a:xfrm>
                <a:prstGeom prst="pie">
                  <a:avLst/>
                </a:prstGeom>
                <a:solidFill>
                  <a:srgbClr val="0092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Freeform 15"/>
                <p:cNvSpPr/>
                <p:nvPr/>
              </p:nvSpPr>
              <p:spPr>
                <a:xfrm>
                  <a:off x="2513160" y="1676520"/>
                  <a:ext cx="4124160" cy="421632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Freeform 16"/>
                <p:cNvSpPr/>
                <p:nvPr/>
              </p:nvSpPr>
              <p:spPr>
                <a:xfrm>
                  <a:off x="2168640" y="1325520"/>
                  <a:ext cx="2406600" cy="2459160"/>
                </a:xfrm>
                <a:prstGeom prst="pie">
                  <a:avLst/>
                </a:prstGeom>
                <a:solidFill>
                  <a:srgbClr val="e77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7" name="Freeform 17"/>
                <p:cNvSpPr/>
                <p:nvPr/>
              </p:nvSpPr>
              <p:spPr>
                <a:xfrm>
                  <a:off x="2168640" y="1325520"/>
                  <a:ext cx="2406600" cy="2459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8" name="Freeform 18"/>
                <p:cNvSpPr/>
                <p:nvPr/>
              </p:nvSpPr>
              <p:spPr>
                <a:xfrm>
                  <a:off x="2513160" y="3784680"/>
                  <a:ext cx="2062080" cy="2108160"/>
                </a:xfrm>
                <a:prstGeom prst="pie">
                  <a:avLst/>
                </a:prstGeom>
                <a:solidFill>
                  <a:srgbClr val="009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9" name="Freeform 19"/>
                <p:cNvSpPr/>
                <p:nvPr/>
              </p:nvSpPr>
              <p:spPr>
                <a:xfrm>
                  <a:off x="2513160" y="3784680"/>
                  <a:ext cx="2062080" cy="2108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0" name="Freeform 20"/>
                <p:cNvSpPr/>
                <p:nvPr/>
              </p:nvSpPr>
              <p:spPr>
                <a:xfrm>
                  <a:off x="4575240" y="1676520"/>
                  <a:ext cx="2062080" cy="2108160"/>
                </a:xfrm>
                <a:prstGeom prst="pie">
                  <a:avLst/>
                </a:prstGeom>
                <a:solidFill>
                  <a:srgbClr val="da2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1" name="Freeform 21"/>
                <p:cNvSpPr/>
                <p:nvPr/>
              </p:nvSpPr>
              <p:spPr>
                <a:xfrm>
                  <a:off x="4575240" y="1676520"/>
                  <a:ext cx="2062080" cy="2108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2" name="Rectangle 22"/>
                <p:cNvSpPr/>
                <p:nvPr/>
              </p:nvSpPr>
              <p:spPr>
                <a:xfrm>
                  <a:off x="2484360" y="2813040"/>
                  <a:ext cx="198288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29166f"/>
                      </a:solidFill>
                      <a:latin typeface="Arial"/>
                    </a:rPr>
                    <a:t>Управление предприятием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3" name="Rectangle 25"/>
                <p:cNvSpPr/>
                <p:nvPr/>
              </p:nvSpPr>
              <p:spPr>
                <a:xfrm>
                  <a:off x="4726080" y="2813040"/>
                  <a:ext cx="15336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9240"/>
                      </a:solidFill>
                      <a:latin typeface="Arial"/>
                    </a:rPr>
                    <a:t>Документооборот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4" name="Rectangle 27"/>
                <p:cNvSpPr/>
                <p:nvPr/>
              </p:nvSpPr>
              <p:spPr>
                <a:xfrm>
                  <a:off x="2627280" y="4037040"/>
                  <a:ext cx="19130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Электронный архив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5" name="Rectangle 30"/>
                <p:cNvSpPr/>
                <p:nvPr/>
              </p:nvSpPr>
              <p:spPr>
                <a:xfrm>
                  <a:off x="4726080" y="4037040"/>
                  <a:ext cx="15336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500"/>
                      </a:solidFill>
                      <a:latin typeface="Arial"/>
                    </a:rPr>
                    <a:t>Управление данным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116" name="Picture 3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883120" y="4894200"/>
                  <a:ext cx="1857600" cy="142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Picture 3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4935600"/>
                  <a:ext cx="1876320" cy="138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Picture 34" descr="sna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55920" y="1504800"/>
                  <a:ext cx="2519280" cy="81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Picture 35" descr="snap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00720" y="1474920"/>
                  <a:ext cx="2232000" cy="127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0" name="Text Box 8"/>
                <p:cNvSpPr/>
                <p:nvPr/>
              </p:nvSpPr>
              <p:spPr>
                <a:xfrm>
                  <a:off x="1194480" y="2422440"/>
                  <a:ext cx="147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c000"/>
                      </a:solidFill>
                      <a:latin typeface="Calibri"/>
                    </a:rPr>
                    <a:t>Lotsia ERP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1" name="Text Box 36"/>
              <p:cNvSpPr/>
              <p:nvPr/>
            </p:nvSpPr>
            <p:spPr>
              <a:xfrm>
                <a:off x="7389000" y="3068640"/>
                <a:ext cx="159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000"/>
                    </a:solidFill>
                    <a:latin typeface="Calibri"/>
                  </a:rPr>
                  <a:t>Lotsia WEB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2" name="Text Box 37"/>
            <p:cNvSpPr/>
            <p:nvPr/>
          </p:nvSpPr>
          <p:spPr>
            <a:xfrm>
              <a:off x="2289240" y="3429000"/>
              <a:ext cx="453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Calibri"/>
                </a:rPr>
                <a:t>PLM – Product Lifecycle Management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3" name="Text Box 36"/>
          <p:cNvSpPr/>
          <p:nvPr/>
        </p:nvSpPr>
        <p:spPr>
          <a:xfrm>
            <a:off x="3584520" y="580716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5C1-BF9B-4262-B1A3-9CE07995ACF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5" name="Picture 2" descr=""/>
          <p:cNvPicPr/>
          <p:nvPr/>
        </p:nvPicPr>
        <p:blipFill>
          <a:blip r:embed="rId1"/>
          <a:stretch/>
        </p:blipFill>
        <p:spPr>
          <a:xfrm>
            <a:off x="95400" y="2467080"/>
            <a:ext cx="8951760" cy="3914640"/>
          </a:xfrm>
          <a:prstGeom prst="rect">
            <a:avLst/>
          </a:prstGeom>
          <a:ln w="0">
            <a:noFill/>
          </a:ln>
        </p:spPr>
      </p:pic>
      <p:sp>
        <p:nvSpPr>
          <p:cNvPr id="1266" name="Содержимое 2"/>
          <p:cNvSpPr/>
          <p:nvPr/>
        </p:nvSpPr>
        <p:spPr>
          <a:xfrm>
            <a:off x="66600" y="1484280"/>
            <a:ext cx="898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авление раздела в состав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4884-786A-4B09-BA78-2D1D966906C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1" descr=""/>
          <p:cNvPicPr/>
          <p:nvPr/>
        </p:nvPicPr>
        <p:blipFill>
          <a:blip r:embed="rId1"/>
          <a:stretch/>
        </p:blipFill>
        <p:spPr>
          <a:xfrm>
            <a:off x="1166760" y="1011240"/>
            <a:ext cx="7986600" cy="5824440"/>
          </a:xfrm>
          <a:prstGeom prst="rect">
            <a:avLst/>
          </a:prstGeom>
          <a:ln w="0">
            <a:noFill/>
          </a:ln>
        </p:spPr>
      </p:pic>
      <p:sp>
        <p:nvSpPr>
          <p:cNvPr id="1269" name="Содержимое 2"/>
          <p:cNvSpPr/>
          <p:nvPr/>
        </p:nvSpPr>
        <p:spPr>
          <a:xfrm>
            <a:off x="1403280" y="3165480"/>
            <a:ext cx="338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кетное формирование состава проекта, в том числе с использованием шабл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3F86-360C-45B2-8009-B7DEADAB914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34560" y="1427040"/>
            <a:ext cx="91090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ворная документация может одноврем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ться как в разрезе проектов (например, в составе дела проекта),  так и в отдельной виртуальной папке, предназначенной для сотрудников договорн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ются задачи учёта договоров и договорной документации, в т.ч. по договорам субподряда, защищённого хранения файлов документов и их версий, согласования договорных документов с различными службами (сбор виз и замечаний), учёта незавершенного производства и другие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D1D-C5F0-4D9D-9AAF-1E4D2FBB543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844-9200-4F31-8839-3A8D20D9C3A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Picture 14" descr="snap"/>
          <p:cNvPicPr/>
          <p:nvPr/>
        </p:nvPicPr>
        <p:blipFill>
          <a:blip r:embed="rId1"/>
          <a:stretch/>
        </p:blipFill>
        <p:spPr>
          <a:xfrm>
            <a:off x="-4680" y="1197000"/>
            <a:ext cx="3752640" cy="5646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78" name="Picture 18" descr="snap"/>
          <p:cNvPicPr/>
          <p:nvPr/>
        </p:nvPicPr>
        <p:blipFill>
          <a:blip r:embed="rId2"/>
          <a:stretch/>
        </p:blipFill>
        <p:spPr>
          <a:xfrm>
            <a:off x="2268360" y="2505240"/>
            <a:ext cx="4032360" cy="4281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79" name="Picture 2" descr=""/>
          <p:cNvPicPr/>
          <p:nvPr/>
        </p:nvPicPr>
        <p:blipFill>
          <a:blip r:embed="rId3"/>
          <a:stretch/>
        </p:blipFill>
        <p:spPr>
          <a:xfrm>
            <a:off x="4356000" y="4105440"/>
            <a:ext cx="4537080" cy="268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280" name="Содержимое 2"/>
          <p:cNvSpPr/>
          <p:nvPr/>
        </p:nvSpPr>
        <p:spPr>
          <a:xfrm>
            <a:off x="2340000" y="1341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синжпроек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Скругленный прямоугольник 3"/>
          <p:cNvSpPr/>
          <p:nvPr/>
        </p:nvSpPr>
        <p:spPr>
          <a:xfrm>
            <a:off x="108000" y="1413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6566040" y="5987880"/>
            <a:ext cx="275904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ЗИ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Скругленный прямоугольник 14"/>
          <p:cNvSpPr/>
          <p:nvPr/>
        </p:nvSpPr>
        <p:spPr>
          <a:xfrm>
            <a:off x="2484360" y="2708280"/>
            <a:ext cx="2735280" cy="79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4"/>
          <a:stretch/>
        </p:blipFill>
        <p:spPr>
          <a:xfrm>
            <a:off x="5511960" y="1395360"/>
            <a:ext cx="3632040" cy="2710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285" name="Скругленный прямоугольник 16"/>
          <p:cNvSpPr/>
          <p:nvPr/>
        </p:nvSpPr>
        <p:spPr>
          <a:xfrm>
            <a:off x="5651640" y="1628640"/>
            <a:ext cx="3384360" cy="187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587-DB91-4077-8A05-8B18BECFB08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Содержимое 2"/>
          <p:cNvSpPr/>
          <p:nvPr/>
        </p:nvSpPr>
        <p:spPr>
          <a:xfrm>
            <a:off x="179280" y="1268280"/>
            <a:ext cx="8856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ёт незавершенного производства, пример карточки договора. Мосинжпроект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Picture 14" descr="C:\Common\Снимок6.jpg"/>
          <p:cNvPicPr/>
          <p:nvPr/>
        </p:nvPicPr>
        <p:blipFill>
          <a:blip r:embed="rId1"/>
          <a:stretch/>
        </p:blipFill>
        <p:spPr>
          <a:xfrm>
            <a:off x="22320" y="2070000"/>
            <a:ext cx="8820000" cy="47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AD61-2ECF-4E05-9822-653D7CF9C84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Содержимое 2"/>
          <p:cNvSpPr/>
          <p:nvPr/>
        </p:nvSpPr>
        <p:spPr>
          <a:xfrm>
            <a:off x="3492360" y="1433520"/>
            <a:ext cx="56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ёт незавершенного производства, Мосинжпроект, г. Моск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структуры хранения докум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2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3411720" cy="6843960"/>
          </a:xfrm>
          <a:prstGeom prst="rect">
            <a:avLst/>
          </a:prstGeom>
          <a:ln w="0">
            <a:noFill/>
          </a:ln>
        </p:spPr>
      </p:pic>
      <p:cxnSp>
        <p:nvCxnSpPr>
          <p:cNvPr id="1294" name="Прямая со стрелкой 7"/>
          <p:cNvCxnSpPr/>
          <p:nvPr/>
        </p:nvCxnSpPr>
        <p:spPr>
          <a:xfrm flipH="1" flipV="1">
            <a:off x="1258560" y="475920"/>
            <a:ext cx="2953440" cy="2666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5" name="Содержимое 2"/>
          <p:cNvSpPr/>
          <p:nvPr/>
        </p:nvSpPr>
        <p:spPr>
          <a:xfrm>
            <a:off x="4067280" y="2924280"/>
            <a:ext cx="4465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говоры и доп.согла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ендарны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ументы опл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бподрядные догов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6" name="Прямая со стрелкой 16"/>
          <p:cNvCxnSpPr/>
          <p:nvPr/>
        </p:nvCxnSpPr>
        <p:spPr>
          <a:xfrm flipH="1" flipV="1">
            <a:off x="1177200" y="826200"/>
            <a:ext cx="302508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7" name="Прямая со стрелкой 28"/>
          <p:cNvCxnSpPr/>
          <p:nvPr/>
        </p:nvCxnSpPr>
        <p:spPr>
          <a:xfrm flipH="1" flipV="1">
            <a:off x="1523520" y="1690200"/>
            <a:ext cx="2666160" cy="230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8" name="Прямая со стрелкой 34"/>
          <p:cNvCxnSpPr/>
          <p:nvPr/>
        </p:nvCxnSpPr>
        <p:spPr>
          <a:xfrm flipH="1">
            <a:off x="1658520" y="4470480"/>
            <a:ext cx="252504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9" name="Прямая со стрелкой 40"/>
          <p:cNvCxnSpPr/>
          <p:nvPr/>
        </p:nvCxnSpPr>
        <p:spPr>
          <a:xfrm flipH="1">
            <a:off x="1226880" y="4913280"/>
            <a:ext cx="2946960" cy="714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0" name="Прямая со стрелкой 42"/>
          <p:cNvCxnSpPr/>
          <p:nvPr/>
        </p:nvCxnSpPr>
        <p:spPr>
          <a:xfrm flipH="1">
            <a:off x="1397160" y="5354640"/>
            <a:ext cx="277668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6600" y="155700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 создание комплектов договорны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Picture 14" descr=""/>
          <p:cNvPicPr/>
          <p:nvPr/>
        </p:nvPicPr>
        <p:blipFill>
          <a:blip r:embed="rId1"/>
          <a:stretch/>
        </p:blipFill>
        <p:spPr>
          <a:xfrm>
            <a:off x="34920" y="2806560"/>
            <a:ext cx="5041800" cy="35751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5" descr=""/>
          <p:cNvPicPr/>
          <p:nvPr/>
        </p:nvPicPr>
        <p:blipFill>
          <a:blip r:embed="rId2"/>
          <a:stretch/>
        </p:blipFill>
        <p:spPr>
          <a:xfrm>
            <a:off x="4284720" y="2071800"/>
            <a:ext cx="4859280" cy="3444840"/>
          </a:xfrm>
          <a:prstGeom prst="rect">
            <a:avLst/>
          </a:prstGeom>
          <a:ln w="0">
            <a:noFill/>
          </a:ln>
        </p:spPr>
      </p:pic>
      <p:sp>
        <p:nvSpPr>
          <p:cNvPr id="1304" name="Стрелка вниз 3"/>
          <p:cNvSpPr/>
          <p:nvPr/>
        </p:nvSpPr>
        <p:spPr>
          <a:xfrm rot="1369200">
            <a:off x="2292120" y="2028960"/>
            <a:ext cx="484200" cy="3198600"/>
          </a:xfrm>
          <a:prstGeom prst="downArrow">
            <a:avLst>
              <a:gd name="adj1" fmla="val 50000"/>
              <a:gd name="adj2" fmla="val 50003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Стрелка вниз 12"/>
          <p:cNvSpPr/>
          <p:nvPr/>
        </p:nvSpPr>
        <p:spPr>
          <a:xfrm rot="19944000">
            <a:off x="3886200" y="2034720"/>
            <a:ext cx="484200" cy="2497320"/>
          </a:xfrm>
          <a:prstGeom prst="downArrow">
            <a:avLst>
              <a:gd name="adj1" fmla="val 50000"/>
              <a:gd name="adj2" fmla="val 49976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0368-FF8B-4D4F-9FF9-C477BEF079D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Содержимое 2"/>
          <p:cNvSpPr/>
          <p:nvPr/>
        </p:nvSpPr>
        <p:spPr>
          <a:xfrm>
            <a:off x="22320" y="1312920"/>
            <a:ext cx="9107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ёты, сформированные с помощью встроенного генератора отчётов Lotsia PDM Pl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6E5-A5F6-4D09-B2C8-B00D1DB975F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Picture 19" descr="C:\Common\Снимок4.jpg"/>
          <p:cNvPicPr/>
          <p:nvPr/>
        </p:nvPicPr>
        <p:blipFill>
          <a:blip r:embed="rId1"/>
          <a:stretch/>
        </p:blipFill>
        <p:spPr>
          <a:xfrm>
            <a:off x="2538360" y="2128680"/>
            <a:ext cx="6594480" cy="4699080"/>
          </a:xfrm>
          <a:prstGeom prst="rect">
            <a:avLst/>
          </a:prstGeom>
          <a:ln w="0">
            <a:noFill/>
          </a:ln>
        </p:spPr>
      </p:pic>
      <p:sp>
        <p:nvSpPr>
          <p:cNvPr id="1311" name="Содержимое 2"/>
          <p:cNvSpPr/>
          <p:nvPr/>
        </p:nvSpPr>
        <p:spPr>
          <a:xfrm>
            <a:off x="0" y="2205000"/>
            <a:ext cx="25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отчета «Состояние подготовки договор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Номер слайда 4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92E-AA05-401B-8387-B6D2DCC6DE1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Содержимое 2"/>
          <p:cNvSpPr/>
          <p:nvPr/>
        </p:nvSpPr>
        <p:spPr>
          <a:xfrm>
            <a:off x="108000" y="1573200"/>
            <a:ext cx="885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тический план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юменНИИгипрогаз, г. Тюмен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13" descr="D:\докоборот\презентация\ГИПРО -2005\темплан.jpg"/>
          <p:cNvPicPr/>
          <p:nvPr/>
        </p:nvPicPr>
        <p:blipFill>
          <a:blip r:embed="rId1"/>
          <a:stretch/>
        </p:blipFill>
        <p:spPr>
          <a:xfrm>
            <a:off x="34920" y="2852640"/>
            <a:ext cx="9093240" cy="295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74A-36F7-485B-9D01-FA022F39AAB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7560" y="1317240"/>
            <a:ext cx="91090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ы-графики могут формироваться вручную,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портом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я 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спечивает актуализацию плана-графика «на лет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е с планами-графиками автоматически создаются задания, которые нужно будет выда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актике, длительность процесса выдачи заданий при использовании функциональности документообор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нижается в ра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ические даты выдачи заданий фиксируются автоматически, что значительно упрощает диспетчер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временем исчезает бумажный документооборот по зада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еимущества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на на самостоятельное внед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бкость, переносимость и масштабируе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анение тел документов на защищенных файл-серве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висима от САПР, но интегрирована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я с наиболее популярными офисными прилож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й почтовый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ость для собственных разраб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ысокая стоимость внедрения и 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ьно работающее 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рын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D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истем с 1997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EC95-7D7E-44E6-A03F-FE3A3727FB4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D52-6306-44D3-BF10-87FFD38A53A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17280" y="1413000"/>
            <a:ext cx="912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хронизация плана-графика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Picture 3" descr=""/>
          <p:cNvPicPr/>
          <p:nvPr/>
        </p:nvPicPr>
        <p:blipFill>
          <a:blip r:embed="rId1"/>
          <a:stretch/>
        </p:blipFill>
        <p:spPr>
          <a:xfrm>
            <a:off x="17640" y="2830680"/>
            <a:ext cx="6484680" cy="448596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5" descr=""/>
          <p:cNvPicPr/>
          <p:nvPr/>
        </p:nvPicPr>
        <p:blipFill>
          <a:blip r:embed="rId2"/>
          <a:stretch/>
        </p:blipFill>
        <p:spPr>
          <a:xfrm>
            <a:off x="2058840" y="1879560"/>
            <a:ext cx="7085160" cy="3349800"/>
          </a:xfrm>
          <a:prstGeom prst="rect">
            <a:avLst/>
          </a:prstGeom>
          <a:ln w="0">
            <a:noFill/>
          </a:ln>
        </p:spPr>
      </p:pic>
      <p:cxnSp>
        <p:nvCxnSpPr>
          <p:cNvPr id="1325" name="Прямая со стрелкой 8"/>
          <p:cNvCxnSpPr/>
          <p:nvPr/>
        </p:nvCxnSpPr>
        <p:spPr>
          <a:xfrm flipH="1">
            <a:off x="2339640" y="3553920"/>
            <a:ext cx="653040" cy="1980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6" name="Скругленный прямоугольник 4"/>
          <p:cNvSpPr/>
          <p:nvPr/>
        </p:nvSpPr>
        <p:spPr>
          <a:xfrm>
            <a:off x="2992320" y="2565360"/>
            <a:ext cx="3510000" cy="21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Скругленный прямоугольник 12"/>
          <p:cNvSpPr/>
          <p:nvPr/>
        </p:nvSpPr>
        <p:spPr>
          <a:xfrm>
            <a:off x="755640" y="5533920"/>
            <a:ext cx="5040360" cy="131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59F-F723-4879-A0C8-B9BF82DDA6B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12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матическая генерация заданий по плану-граф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1" name="Picture 3" descr=""/>
          <p:cNvPicPr/>
          <p:nvPr/>
        </p:nvPicPr>
        <p:blipFill>
          <a:blip r:embed="rId1"/>
          <a:stretch/>
        </p:blipFill>
        <p:spPr>
          <a:xfrm>
            <a:off x="568440" y="1833480"/>
            <a:ext cx="7891200" cy="49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40520" cy="5218200"/>
          </a:xfrm>
          <a:prstGeom prst="rect">
            <a:avLst/>
          </a:prstGeom>
          <a:ln w="0">
            <a:noFill/>
          </a:ln>
        </p:spPr>
      </p:pic>
      <p:sp>
        <p:nvSpPr>
          <p:cNvPr id="13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FB1-051D-419A-ACF1-4485A123B8D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инятие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5" name="Подзаголовок 1"/>
          <p:cNvGrpSpPr/>
          <p:nvPr/>
        </p:nvGrpSpPr>
        <p:grpSpPr>
          <a:xfrm>
            <a:off x="1206360" y="4475160"/>
            <a:ext cx="6705720" cy="1760400"/>
            <a:chOff x="1206360" y="4475160"/>
            <a:chExt cx="6705720" cy="1760400"/>
          </a:xfrm>
        </p:grpSpPr>
        <p:pic>
          <p:nvPicPr>
            <p:cNvPr id="1336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1206360" y="4475160"/>
              <a:ext cx="67057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1222200" y="4495680"/>
              <a:ext cx="668052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ак и в традиционном документообороте, задания могут приниматься с замечаниями или не приниматьс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Роль диспетчера может претерпеть измен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25527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каждом этапе настраиваемые ролевые формы с предпросмот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9" name="Picture 6" descr="C:\Common\Снимок6.jpg"/>
          <p:cNvPicPr/>
          <p:nvPr/>
        </p:nvPicPr>
        <p:blipFill>
          <a:blip r:embed="rId1"/>
          <a:stretch/>
        </p:blipFill>
        <p:spPr>
          <a:xfrm>
            <a:off x="2552760" y="1414440"/>
            <a:ext cx="6600600" cy="5402160"/>
          </a:xfrm>
          <a:prstGeom prst="rect">
            <a:avLst/>
          </a:prstGeom>
          <a:ln w="0">
            <a:noFill/>
          </a:ln>
        </p:spPr>
      </p:pic>
      <p:sp>
        <p:nvSpPr>
          <p:cNvPr id="134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инятие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7EAC-C160-4C1E-ABC4-AC1EEB8CF31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E87-088B-48A9-8605-D87B0952606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448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карточки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полнение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5" name="Picture 3" descr=""/>
          <p:cNvPicPr/>
          <p:nvPr/>
        </p:nvPicPr>
        <p:blipFill>
          <a:blip r:embed="rId1"/>
          <a:stretch/>
        </p:blipFill>
        <p:spPr>
          <a:xfrm>
            <a:off x="1227240" y="4221000"/>
            <a:ext cx="7916760" cy="222732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2" descr=""/>
          <p:cNvPicPr/>
          <p:nvPr/>
        </p:nvPicPr>
        <p:blipFill>
          <a:blip r:embed="rId2"/>
          <a:stretch/>
        </p:blipFill>
        <p:spPr>
          <a:xfrm>
            <a:off x="7920" y="1844640"/>
            <a:ext cx="6004080" cy="2630520"/>
          </a:xfrm>
          <a:prstGeom prst="rect">
            <a:avLst/>
          </a:prstGeom>
          <a:ln w="0">
            <a:noFill/>
          </a:ln>
        </p:spPr>
      </p:pic>
      <p:grpSp>
        <p:nvGrpSpPr>
          <p:cNvPr id="1347" name="Подзаголовок 1"/>
          <p:cNvGrpSpPr/>
          <p:nvPr/>
        </p:nvGrpSpPr>
        <p:grpSpPr>
          <a:xfrm>
            <a:off x="4700520" y="5870520"/>
            <a:ext cx="4383000" cy="536760"/>
            <a:chOff x="4700520" y="5870520"/>
            <a:chExt cx="4383000" cy="536760"/>
          </a:xfrm>
        </p:grpSpPr>
        <p:pic>
          <p:nvPicPr>
            <p:cNvPr id="1348" name="Подзаголовок 1" descr=""/>
            <p:cNvPicPr/>
            <p:nvPr/>
          </p:nvPicPr>
          <p:blipFill>
            <a:blip r:embed="rId3"/>
            <a:stretch/>
          </p:blipFill>
          <p:spPr>
            <a:xfrm>
              <a:off x="4700520" y="5870520"/>
              <a:ext cx="4383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4716360" y="5891040"/>
              <a:ext cx="435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История принятия зад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0" name="Подзаголовок 1"/>
          <p:cNvSpPr/>
          <p:nvPr/>
        </p:nvSpPr>
        <p:spPr>
          <a:xfrm>
            <a:off x="6012000" y="2670120"/>
            <a:ext cx="30607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ические даты проставляются авто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Скругленный прямоугольник 9"/>
          <p:cNvSpPr/>
          <p:nvPr/>
        </p:nvSpPr>
        <p:spPr>
          <a:xfrm>
            <a:off x="3406680" y="4005360"/>
            <a:ext cx="244800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2" name="Прямая со стрелкой 10"/>
          <p:cNvCxnSpPr/>
          <p:nvPr/>
        </p:nvCxnSpPr>
        <p:spPr>
          <a:xfrm flipH="1">
            <a:off x="5854320" y="4005000"/>
            <a:ext cx="1310400" cy="14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340-078D-4013-8CFE-62B4524E65D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01836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роенный генератор отчётов позволяет получать различные формы планов-граф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мотр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6" name="Picture 3" descr=""/>
          <p:cNvPicPr/>
          <p:nvPr/>
        </p:nvPicPr>
        <p:blipFill>
          <a:blip r:embed="rId1"/>
          <a:stretch/>
        </p:blipFill>
        <p:spPr>
          <a:xfrm>
            <a:off x="-4680" y="2416320"/>
            <a:ext cx="91533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0CEB-C142-4760-B837-C31B481802F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17640" y="1353960"/>
            <a:ext cx="844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лана-графика ТюменНИИгипрогаз, г. Тюм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мотр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0" name="Picture 9" descr=""/>
          <p:cNvPicPr/>
          <p:nvPr/>
        </p:nvPicPr>
        <p:blipFill>
          <a:blip r:embed="rId1"/>
          <a:stretch/>
        </p:blipFill>
        <p:spPr>
          <a:xfrm>
            <a:off x="22320" y="1930320"/>
            <a:ext cx="91072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0CFE-A4B2-4C1E-882F-2B6676D541A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вод докум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0" y="1353600"/>
            <a:ext cx="91440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подхода к организации ввода документ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умент рождается в сис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ки: множество промежуточных вариантов документов, требуется проработка системы хранения «черновиков», требуется контроль соответствия электронной и бумажной версий доку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имущества: отслеживается жизненный цикл документа, повышается степень контроля за работой исполн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истему вводятся утвержден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ки: не отслеживается история доку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имущества: «ничего лишнего», проще реализовать, дополнительная нагрузка перекладывается с исполнителей на сотрудников архива или отдела выпуска, или операторов в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E353-B5EB-4398-AF16-681E45920C5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вод докум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Picture 3" descr=""/>
          <p:cNvPicPr/>
          <p:nvPr/>
        </p:nvPicPr>
        <p:blipFill>
          <a:blip r:embed="rId1"/>
          <a:stretch/>
        </p:blipFill>
        <p:spPr>
          <a:xfrm>
            <a:off x="7920" y="1906560"/>
            <a:ext cx="7156440" cy="4907160"/>
          </a:xfrm>
          <a:prstGeom prst="rect">
            <a:avLst/>
          </a:prstGeom>
          <a:ln w="0">
            <a:noFill/>
          </a:ln>
        </p:spPr>
      </p:pic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126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ельно простые формы ввода - минимиз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Подзаголовок 1"/>
          <p:cNvSpPr/>
          <p:nvPr/>
        </p:nvSpPr>
        <p:spPr>
          <a:xfrm>
            <a:off x="6300720" y="1700280"/>
            <a:ext cx="2843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й нагрузки на исполн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кетный ввод – для сотрудников арх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Скругленный прямоугольник 8"/>
          <p:cNvSpPr/>
          <p:nvPr/>
        </p:nvSpPr>
        <p:spPr>
          <a:xfrm>
            <a:off x="4249800" y="2303640"/>
            <a:ext cx="16858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0" name="Прямая со стрелкой 9"/>
          <p:cNvCxnSpPr/>
          <p:nvPr/>
        </p:nvCxnSpPr>
        <p:spPr>
          <a:xfrm flipH="1">
            <a:off x="3131280" y="2664000"/>
            <a:ext cx="1972440" cy="910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7E8-B0C0-4B86-AC89-E642B52BCB8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оиск документов и про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17280" y="1371600"/>
            <a:ext cx="91263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рибутивный (по любым критериям) и полнотекстовый по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ображение найденной информации в удоб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го ищем? Найденное мо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мотреть, отредактировать, напечат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аимствовать (использовать «как есть» в других мест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олько состав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ради возможнос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п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нится сильнее всего, поскольку избавляет пользователей от рутинных операций по повторной разработке док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поиска зависят от прав доступа пользовател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4" name="Правая фигурная скобка 1"/>
          <p:cNvGrpSpPr/>
          <p:nvPr/>
        </p:nvGrpSpPr>
        <p:grpSpPr>
          <a:xfrm>
            <a:off x="5126040" y="3657600"/>
            <a:ext cx="379440" cy="1200240"/>
            <a:chOff x="5126040" y="3657600"/>
            <a:chExt cx="379440" cy="1200240"/>
          </a:xfrm>
        </p:grpSpPr>
        <p:pic>
          <p:nvPicPr>
            <p:cNvPr id="1375" name="Правая фигурная скобка 1" descr=""/>
            <p:cNvPicPr/>
            <p:nvPr/>
          </p:nvPicPr>
          <p:blipFill>
            <a:blip r:embed="rId1"/>
            <a:stretch/>
          </p:blipFill>
          <p:spPr>
            <a:xfrm>
              <a:off x="5126040" y="3657600"/>
              <a:ext cx="3794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5148360" y="3699000"/>
              <a:ext cx="7596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7" name="Подзаголовок 1"/>
          <p:cNvGrpSpPr/>
          <p:nvPr/>
        </p:nvGrpSpPr>
        <p:grpSpPr>
          <a:xfrm>
            <a:off x="5559480" y="3676680"/>
            <a:ext cx="3346560" cy="1163520"/>
            <a:chOff x="5559480" y="3676680"/>
            <a:chExt cx="3346560" cy="1163520"/>
          </a:xfrm>
        </p:grpSpPr>
        <p:pic>
          <p:nvPicPr>
            <p:cNvPr id="1378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5559480" y="3676680"/>
              <a:ext cx="33465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5580000" y="3693960"/>
              <a:ext cx="331308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Можно отследить источник копирова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еимущества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90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рокий спектр решаемых задач в одной систем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шиностроение и приборостро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конфигурациями издел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ровождение жизненного цикла изделий и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ческий документообо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эксплуатацией и ремо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отказ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промышленной без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иму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управление отношениями с клиент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поративные рассылки (дни рождений, памятные даты, голосования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A53-4491-458C-9087-972327FBF17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опирование нарабо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28080" y="1501920"/>
            <a:ext cx="89362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копирования и заимствования наработо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т рабочее время и избавляет от рутинных опер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2" name="Группа 2"/>
          <p:cNvGrpSpPr/>
          <p:nvPr/>
        </p:nvGrpSpPr>
        <p:grpSpPr>
          <a:xfrm>
            <a:off x="7920" y="2465280"/>
            <a:ext cx="9144000" cy="4357800"/>
            <a:chOff x="7920" y="2465280"/>
            <a:chExt cx="9144000" cy="4357800"/>
          </a:xfrm>
        </p:grpSpPr>
        <p:pic>
          <p:nvPicPr>
            <p:cNvPr id="1383" name="Рисунок 14" descr="Snap1.jpg"/>
            <p:cNvPicPr/>
            <p:nvPr/>
          </p:nvPicPr>
          <p:blipFill>
            <a:blip r:embed="rId1"/>
            <a:stretch/>
          </p:blipFill>
          <p:spPr>
            <a:xfrm>
              <a:off x="7920" y="3393720"/>
              <a:ext cx="4352760" cy="31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Рисунок 10" descr="Snap1.jpg"/>
            <p:cNvPicPr/>
            <p:nvPr/>
          </p:nvPicPr>
          <p:blipFill>
            <a:blip r:embed="rId2"/>
            <a:stretch/>
          </p:blipFill>
          <p:spPr>
            <a:xfrm>
              <a:off x="3860640" y="2533320"/>
              <a:ext cx="5291280" cy="428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Овал 11"/>
            <p:cNvSpPr/>
            <p:nvPr/>
          </p:nvSpPr>
          <p:spPr>
            <a:xfrm>
              <a:off x="3843360" y="2465280"/>
              <a:ext cx="1242720" cy="42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Овал 15"/>
            <p:cNvSpPr/>
            <p:nvPr/>
          </p:nvSpPr>
          <p:spPr>
            <a:xfrm>
              <a:off x="479160" y="5986440"/>
              <a:ext cx="3000240" cy="642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410-A91F-4C15-AB93-EFC4BE4365C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864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самых удобных и легкодоступных инструментов по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9" name="Picture 2" descr=""/>
          <p:cNvPicPr/>
          <p:nvPr/>
        </p:nvPicPr>
        <p:blipFill>
          <a:blip r:embed="rId1"/>
          <a:stretch/>
        </p:blipFill>
        <p:spPr>
          <a:xfrm>
            <a:off x="96840" y="1868400"/>
            <a:ext cx="8939160" cy="4567320"/>
          </a:xfrm>
          <a:prstGeom prst="rect">
            <a:avLst/>
          </a:prstGeom>
          <a:ln w="0">
            <a:noFill/>
          </a:ln>
        </p:spPr>
      </p:pic>
      <p:sp>
        <p:nvSpPr>
          <p:cNvPr id="139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Автофиль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Содержимое 2"/>
          <p:cNvSpPr/>
          <p:nvPr/>
        </p:nvSpPr>
        <p:spPr>
          <a:xfrm>
            <a:off x="34920" y="13986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кетная обработка очереди заданий в отделе выпу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2" name="Picture 9" descr="C:\Dmitry\Attachments\Bitmaps\11\0302\Att.2011-03-02.8.png"/>
          <p:cNvPicPr/>
          <p:nvPr/>
        </p:nvPicPr>
        <p:blipFill>
          <a:blip r:embed="rId1"/>
          <a:stretch/>
        </p:blipFill>
        <p:spPr>
          <a:xfrm>
            <a:off x="34920" y="1844640"/>
            <a:ext cx="7867800" cy="316872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8" descr="C:\Dmitry\Attachments\Bitmaps\11\0302\Att.2011-03-02.6.png"/>
          <p:cNvPicPr/>
          <p:nvPr/>
        </p:nvPicPr>
        <p:blipFill>
          <a:blip r:embed="rId2"/>
          <a:stretch/>
        </p:blipFill>
        <p:spPr>
          <a:xfrm>
            <a:off x="30240" y="4005360"/>
            <a:ext cx="9112320" cy="2879640"/>
          </a:xfrm>
          <a:prstGeom prst="rect">
            <a:avLst/>
          </a:prstGeom>
          <a:ln w="0">
            <a:noFill/>
          </a:ln>
        </p:spPr>
      </p:pic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ыпуск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B09-02C3-4BC2-9960-F3DB9ACC810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6" name="Содержимое 2"/>
          <p:cNvGrpSpPr/>
          <p:nvPr/>
        </p:nvGrpSpPr>
        <p:grpSpPr>
          <a:xfrm>
            <a:off x="4986360" y="3286080"/>
            <a:ext cx="4133880" cy="932040"/>
            <a:chOff x="4986360" y="3286080"/>
            <a:chExt cx="4133880" cy="932040"/>
          </a:xfrm>
        </p:grpSpPr>
        <p:pic>
          <p:nvPicPr>
            <p:cNvPr id="1397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4986360" y="3286080"/>
              <a:ext cx="41338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"/>
            <p:cNvSpPr/>
            <p:nvPr/>
          </p:nvSpPr>
          <p:spPr>
            <a:xfrm>
              <a:off x="5003640" y="3303720"/>
              <a:ext cx="410544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имеры форм Мосинжпроекта, г. Москв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Комплектация и выгрузка документов для передачи заказч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Номер слайда 4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ED3-9F5A-40AA-B162-F0E2A64C492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1" name="Picture 2" descr=""/>
          <p:cNvPicPr/>
          <p:nvPr/>
        </p:nvPicPr>
        <p:blipFill>
          <a:blip r:embed="rId1"/>
          <a:stretch/>
        </p:blipFill>
        <p:spPr>
          <a:xfrm>
            <a:off x="-42840" y="1341360"/>
            <a:ext cx="6889680" cy="33228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3" descr=""/>
          <p:cNvPicPr/>
          <p:nvPr/>
        </p:nvPicPr>
        <p:blipFill>
          <a:blip r:embed="rId2"/>
          <a:stretch/>
        </p:blipFill>
        <p:spPr>
          <a:xfrm>
            <a:off x="3506760" y="2892600"/>
            <a:ext cx="5707080" cy="3921120"/>
          </a:xfrm>
          <a:prstGeom prst="rect">
            <a:avLst/>
          </a:prstGeom>
          <a:ln w="0">
            <a:noFill/>
          </a:ln>
        </p:spPr>
      </p:pic>
      <p:sp>
        <p:nvSpPr>
          <p:cNvPr id="1403" name="Text Box 3"/>
          <p:cNvSpPr/>
          <p:nvPr/>
        </p:nvSpPr>
        <p:spPr>
          <a:xfrm>
            <a:off x="6846840" y="1384200"/>
            <a:ext cx="2367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че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ертекстов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са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 Box 3"/>
          <p:cNvSpPr/>
          <p:nvPr/>
        </p:nvSpPr>
        <p:spPr>
          <a:xfrm>
            <a:off x="108000" y="4149720"/>
            <a:ext cx="3348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 отбора докумен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типам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атрибу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илож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14" descr="D:\докоборот\презентация\ГИПРО -2005\РИСУНКИ\отчеты\выполнение- СО.jpg"/>
          <p:cNvPicPr/>
          <p:nvPr/>
        </p:nvPicPr>
        <p:blipFill>
          <a:blip r:embed="rId1"/>
          <a:stretch/>
        </p:blipFill>
        <p:spPr>
          <a:xfrm>
            <a:off x="17640" y="2097000"/>
            <a:ext cx="8886600" cy="16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06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230-4FE6-4635-B6C8-EA1726D1993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7" name="Picture 12" descr="D:\докоборот\презентация\ГИПРО -2005\РИСУНКИ\отчеты\цветная по СО.jpg"/>
          <p:cNvPicPr/>
          <p:nvPr/>
        </p:nvPicPr>
        <p:blipFill>
          <a:blip r:embed="rId2"/>
          <a:stretch/>
        </p:blipFill>
        <p:spPr>
          <a:xfrm>
            <a:off x="736560" y="3471840"/>
            <a:ext cx="8167680" cy="21178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08" name="Picture 6" descr="D:\докоборот\презентация\ГИПРО -2005\РИСУНКИ\отчеты\отчет о приемке от СО.jpg"/>
          <p:cNvPicPr/>
          <p:nvPr/>
        </p:nvPicPr>
        <p:blipFill>
          <a:blip r:embed="rId3"/>
          <a:stretch/>
        </p:blipFill>
        <p:spPr>
          <a:xfrm>
            <a:off x="1978200" y="4508640"/>
            <a:ext cx="714348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09" name="Содержимое 2"/>
          <p:cNvSpPr/>
          <p:nvPr/>
        </p:nvSpPr>
        <p:spPr>
          <a:xfrm>
            <a:off x="108000" y="1316160"/>
            <a:ext cx="8856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е справки, перечни, отчёты по загрузке, графики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справ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менНИИгипрогаз, г. Тюм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Аналитика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смежны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зада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10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E3D9-CA4C-4172-9D53-E8E36B118F7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Содержимое 2"/>
          <p:cNvSpPr/>
          <p:nvPr/>
        </p:nvSpPr>
        <p:spPr>
          <a:xfrm>
            <a:off x="108000" y="1644480"/>
            <a:ext cx="89280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жные задачи – задачи, соприкасающиеся с задачами, решаемыми в основной деятельности. Круг смежных задач, решаемых с помощь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чень широк – от учёта корреспонденции до учёта имущества. Ближайшие смежные задачи – регистрация входящей и исходящей корреспонденции, приказов, распоряжений, служебных запи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максимального количества задач в одной программе позволяет сэкономить на приобретении, внедрении и интеграции различных программ и сделать работу более комфортной за счет единого программного интерфей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любых задач должно выполняться поэтап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меж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7D6-71EA-4E3F-B73B-7DD8AEB7E73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571760" y="282240"/>
            <a:ext cx="738792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Регистрация входящей корреспонд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9" name="Picture 2" descr=""/>
          <p:cNvPicPr/>
          <p:nvPr/>
        </p:nvPicPr>
        <p:blipFill>
          <a:blip r:embed="rId1"/>
          <a:stretch/>
        </p:blipFill>
        <p:spPr>
          <a:xfrm>
            <a:off x="2865600" y="1413000"/>
            <a:ext cx="6262560" cy="5427360"/>
          </a:xfrm>
          <a:prstGeom prst="rect">
            <a:avLst/>
          </a:prstGeom>
          <a:ln w="0">
            <a:noFill/>
          </a:ln>
        </p:spPr>
      </p:pic>
      <p:sp>
        <p:nvSpPr>
          <p:cNvPr id="1420" name="Содержимое 2"/>
          <p:cNvSpPr/>
          <p:nvPr/>
        </p:nvSpPr>
        <p:spPr>
          <a:xfrm>
            <a:off x="4680" y="1557360"/>
            <a:ext cx="2860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аг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актные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а 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ая и ручная нумер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1" name="Прямая со стрелкой 7"/>
          <p:cNvCxnSpPr/>
          <p:nvPr/>
        </p:nvCxnSpPr>
        <p:spPr>
          <a:xfrm flipV="1">
            <a:off x="2484000" y="3428280"/>
            <a:ext cx="1801080" cy="18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2" name="Прямая со стрелкой 10"/>
          <p:cNvCxnSpPr/>
          <p:nvPr/>
        </p:nvCxnSpPr>
        <p:spPr>
          <a:xfrm flipV="1">
            <a:off x="2739600" y="2668320"/>
            <a:ext cx="896040" cy="761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3" name="Прямая со стрелкой 27"/>
          <p:cNvCxnSpPr/>
          <p:nvPr/>
        </p:nvCxnSpPr>
        <p:spPr>
          <a:xfrm flipV="1">
            <a:off x="2092320" y="3573000"/>
            <a:ext cx="5690160" cy="72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4" name="Прямая со стрелкой 33"/>
          <p:cNvCxnSpPr/>
          <p:nvPr/>
        </p:nvCxnSpPr>
        <p:spPr>
          <a:xfrm flipV="1">
            <a:off x="2217600" y="2339640"/>
            <a:ext cx="1045440" cy="658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9CF-1EB9-43F3-9F98-0E62714C694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арточка входящего пис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Picture 4" descr=""/>
          <p:cNvPicPr/>
          <p:nvPr/>
        </p:nvPicPr>
        <p:blipFill>
          <a:blip r:embed="rId1"/>
          <a:stretch/>
        </p:blipFill>
        <p:spPr>
          <a:xfrm>
            <a:off x="187200" y="1871640"/>
            <a:ext cx="8677440" cy="4968720"/>
          </a:xfrm>
          <a:prstGeom prst="rect">
            <a:avLst/>
          </a:prstGeom>
          <a:ln w="0">
            <a:noFill/>
          </a:ln>
        </p:spPr>
      </p:pic>
      <p:sp>
        <p:nvSpPr>
          <p:cNvPr id="1428" name="Содержимое 2"/>
          <p:cNvSpPr/>
          <p:nvPr/>
        </p:nvSpPr>
        <p:spPr>
          <a:xfrm>
            <a:off x="179280" y="1398600"/>
            <a:ext cx="8785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формы Мосинжпроекта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FA37-6D29-4ACE-8EC4-03550930767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Обработка резолю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1" name="Picture 2" descr=""/>
          <p:cNvPicPr/>
          <p:nvPr/>
        </p:nvPicPr>
        <p:blipFill>
          <a:blip r:embed="rId1"/>
          <a:stretch/>
        </p:blipFill>
        <p:spPr>
          <a:xfrm>
            <a:off x="-1440" y="1484280"/>
            <a:ext cx="913752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432" name="Подзаголовок 1"/>
          <p:cNvGrpSpPr/>
          <p:nvPr/>
        </p:nvGrpSpPr>
        <p:grpSpPr>
          <a:xfrm>
            <a:off x="92160" y="2981160"/>
            <a:ext cx="4132080" cy="2548080"/>
            <a:chOff x="92160" y="2981160"/>
            <a:chExt cx="4132080" cy="2548080"/>
          </a:xfrm>
        </p:grpSpPr>
        <p:pic>
          <p:nvPicPr>
            <p:cNvPr id="1433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92160" y="2981160"/>
              <a:ext cx="413208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108000" y="2997360"/>
              <a:ext cx="410364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Любая иерархия резолюци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оведение резолюций до исполнителе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нтроль хода исполн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79280" y="147132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все процессы проектных организаций: корреспонденция, управленческий документооборот, договорная работа, проектно-сметная и изыскательская документация, конструкторская документация, передача документации заказчику, замечания экспертизы, архивное хранение, авторский надзор, внесение изменени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ует управление информационными процессами и контрол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х испол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ва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автоматизацию прохождения документов между участниками бизнес-проце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требует программирования, гибкая, открытая и масштабируем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льнейшая российская система управления данными и документооборо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еальные внедрени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otsia PDM Plus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говорят сами за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ABA-094B-4600-AAAC-F7ABE0E542B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004-198F-41B7-B6BC-1B1429D10E2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онтроль хода испол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7" name="Picture 2" descr=""/>
          <p:cNvPicPr/>
          <p:nvPr/>
        </p:nvPicPr>
        <p:blipFill>
          <a:blip r:embed="rId1"/>
          <a:stretch/>
        </p:blipFill>
        <p:spPr>
          <a:xfrm>
            <a:off x="58680" y="3063960"/>
            <a:ext cx="9036000" cy="32446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3" descr=""/>
          <p:cNvPicPr/>
          <p:nvPr/>
        </p:nvPicPr>
        <p:blipFill>
          <a:blip r:embed="rId2"/>
          <a:stretch/>
        </p:blipFill>
        <p:spPr>
          <a:xfrm>
            <a:off x="409680" y="1558800"/>
            <a:ext cx="4306680" cy="114948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4" descr=""/>
          <p:cNvPicPr/>
          <p:nvPr/>
        </p:nvPicPr>
        <p:blipFill>
          <a:blip r:embed="rId3"/>
          <a:stretch/>
        </p:blipFill>
        <p:spPr>
          <a:xfrm>
            <a:off x="4788000" y="1569960"/>
            <a:ext cx="2879640" cy="579600"/>
          </a:xfrm>
          <a:prstGeom prst="rect">
            <a:avLst/>
          </a:prstGeom>
          <a:ln w="0">
            <a:noFill/>
          </a:ln>
        </p:spPr>
      </p:pic>
      <p:cxnSp>
        <p:nvCxnSpPr>
          <p:cNvPr id="1440" name="Соединительная линия уступом 16"/>
          <p:cNvCxnSpPr/>
          <p:nvPr/>
        </p:nvCxnSpPr>
        <p:spPr>
          <a:xfrm flipV="1" rot="16200000">
            <a:off x="-328680" y="3533760"/>
            <a:ext cx="2994840" cy="25308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1" name="Соединительная линия уступом 20"/>
          <p:cNvCxnSpPr/>
          <p:nvPr/>
        </p:nvCxnSpPr>
        <p:spPr>
          <a:xfrm flipH="1" flipV="1" rot="5400000">
            <a:off x="417240" y="3738600"/>
            <a:ext cx="2809080" cy="4323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2" name="Прямая со стрелкой 23"/>
          <p:cNvCxnSpPr/>
          <p:nvPr/>
        </p:nvCxnSpPr>
        <p:spPr>
          <a:xfrm flipV="1">
            <a:off x="769680" y="2032920"/>
            <a:ext cx="1080" cy="280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2DF-586D-4C91-81DE-F278CAB6EA8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571760" y="282240"/>
            <a:ext cx="738792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Регистрация исходящей корреспонд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Содержимое 2"/>
          <p:cNvSpPr/>
          <p:nvPr/>
        </p:nvSpPr>
        <p:spPr>
          <a:xfrm>
            <a:off x="4680" y="1359000"/>
            <a:ext cx="5143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ческая и ручная нум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отправки нескольким адреса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6" name="Picture 2" descr=""/>
          <p:cNvPicPr/>
          <p:nvPr/>
        </p:nvPicPr>
        <p:blipFill>
          <a:blip r:embed="rId1"/>
          <a:stretch/>
        </p:blipFill>
        <p:spPr>
          <a:xfrm>
            <a:off x="88920" y="2430360"/>
            <a:ext cx="8964720" cy="4383360"/>
          </a:xfrm>
          <a:prstGeom prst="rect">
            <a:avLst/>
          </a:prstGeom>
          <a:ln w="0">
            <a:noFill/>
          </a:ln>
        </p:spPr>
      </p:pic>
      <p:sp>
        <p:nvSpPr>
          <p:cNvPr id="1447" name="Содержимое 2"/>
          <p:cNvSpPr/>
          <p:nvPr/>
        </p:nvSpPr>
        <p:spPr>
          <a:xfrm>
            <a:off x="5508720" y="1430280"/>
            <a:ext cx="3456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формы Аэропроекта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вязь проектов и пис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45E-8A5D-4929-AE0F-8F29B724363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2796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4" descr=""/>
          <p:cNvPicPr/>
          <p:nvPr/>
        </p:nvPicPr>
        <p:blipFill>
          <a:blip r:embed="rId2"/>
          <a:stretch/>
        </p:blipFill>
        <p:spPr>
          <a:xfrm>
            <a:off x="7920" y="5589720"/>
            <a:ext cx="9136080" cy="108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тория перепи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B7FE-EE82-4B27-ADFD-C356820FE4D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4" name="Picture 2" descr=""/>
          <p:cNvPicPr/>
          <p:nvPr/>
        </p:nvPicPr>
        <p:blipFill>
          <a:blip r:embed="rId1"/>
          <a:stretch/>
        </p:blipFill>
        <p:spPr>
          <a:xfrm>
            <a:off x="47520" y="1806480"/>
            <a:ext cx="9047160" cy="4286520"/>
          </a:xfrm>
          <a:prstGeom prst="rect">
            <a:avLst/>
          </a:prstGeom>
          <a:ln w="0">
            <a:noFill/>
          </a:ln>
        </p:spPr>
      </p:pic>
      <p:grpSp>
        <p:nvGrpSpPr>
          <p:cNvPr id="1455" name="Подзаголовок 1"/>
          <p:cNvGrpSpPr/>
          <p:nvPr/>
        </p:nvGrpSpPr>
        <p:grpSpPr>
          <a:xfrm>
            <a:off x="182520" y="3828960"/>
            <a:ext cx="4140360" cy="1541520"/>
            <a:chOff x="182520" y="3828960"/>
            <a:chExt cx="4140360" cy="1541520"/>
          </a:xfrm>
        </p:grpSpPr>
        <p:pic>
          <p:nvPicPr>
            <p:cNvPr id="1456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182520" y="3828960"/>
              <a:ext cx="4140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203040" y="3843360"/>
              <a:ext cx="41040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едется автоматичес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Отображает всю цепочку писем и связе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4" descr=""/>
          <p:cNvPicPr/>
          <p:nvPr/>
        </p:nvPicPr>
        <p:blipFill>
          <a:blip r:embed="rId1"/>
          <a:stretch/>
        </p:blipFill>
        <p:spPr>
          <a:xfrm>
            <a:off x="34920" y="1424160"/>
            <a:ext cx="7201080" cy="539244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Собственный почтовый кли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2BE7-0508-4CB3-B2D1-CD037DA1234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Содержимое 2"/>
          <p:cNvSpPr/>
          <p:nvPr/>
        </p:nvSpPr>
        <p:spPr>
          <a:xfrm>
            <a:off x="6443640" y="2565360"/>
            <a:ext cx="2674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матический или ручной прием сообщений от внешних адресат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правка сообщений внешним адреса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возная история переписки по внешним и внутренним сообще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6126120"/>
            <a:ext cx="9302760" cy="804960"/>
          </a:xfrm>
          <a:prstGeom prst="rect">
            <a:avLst/>
          </a:prstGeom>
          <a:ln w="0">
            <a:noFill/>
          </a:ln>
        </p:spPr>
      </p:pic>
      <p:grpSp>
        <p:nvGrpSpPr>
          <p:cNvPr id="1463" name="Группа 7"/>
          <p:cNvGrpSpPr/>
          <p:nvPr/>
        </p:nvGrpSpPr>
        <p:grpSpPr>
          <a:xfrm>
            <a:off x="-12600" y="0"/>
            <a:ext cx="9144000" cy="1357200"/>
            <a:chOff x="-12600" y="0"/>
            <a:chExt cx="9144000" cy="1357200"/>
          </a:xfrm>
        </p:grpSpPr>
        <p:pic>
          <p:nvPicPr>
            <p:cNvPr id="146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440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Рисунок 9" descr="lotsia_software_logo_179x158.gif"/>
            <p:cNvPicPr/>
            <p:nvPr/>
          </p:nvPicPr>
          <p:blipFill>
            <a:blip r:embed="rId3"/>
            <a:stretch/>
          </p:blipFill>
          <p:spPr>
            <a:xfrm>
              <a:off x="87120" y="49320"/>
              <a:ext cx="1510560" cy="121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6" name="Заголовок 1"/>
          <p:cNvSpPr/>
          <p:nvPr/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Журналы регист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Подзаголовок 2"/>
          <p:cNvSpPr/>
          <p:nvPr/>
        </p:nvSpPr>
        <p:spPr>
          <a:xfrm>
            <a:off x="57240" y="1413000"/>
            <a:ext cx="8475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формы журналов, «живые» ст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ADE-BF59-4758-90D3-28138B6904B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Picture 2" descr=""/>
          <p:cNvPicPr/>
          <p:nvPr/>
        </p:nvPicPr>
        <p:blipFill>
          <a:blip r:embed="rId4"/>
          <a:stretch/>
        </p:blipFill>
        <p:spPr>
          <a:xfrm>
            <a:off x="0" y="2066760"/>
            <a:ext cx="9191520" cy="272448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4" descr=""/>
          <p:cNvPicPr/>
          <p:nvPr/>
        </p:nvPicPr>
        <p:blipFill>
          <a:blip r:embed="rId5"/>
          <a:stretch/>
        </p:blipFill>
        <p:spPr>
          <a:xfrm>
            <a:off x="-11160" y="4170240"/>
            <a:ext cx="9142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387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Иерархическое хранение док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4" descr=""/>
          <p:cNvPicPr/>
          <p:nvPr/>
        </p:nvPicPr>
        <p:blipFill>
          <a:blip r:embed="rId1"/>
          <a:stretch/>
        </p:blipFill>
        <p:spPr>
          <a:xfrm>
            <a:off x="9360" y="1413000"/>
            <a:ext cx="3338640" cy="36860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5" descr=""/>
          <p:cNvPicPr/>
          <p:nvPr/>
        </p:nvPicPr>
        <p:blipFill>
          <a:blip r:embed="rId2"/>
          <a:stretch/>
        </p:blipFill>
        <p:spPr>
          <a:xfrm>
            <a:off x="2771640" y="2651040"/>
            <a:ext cx="3695760" cy="3873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3" descr=""/>
          <p:cNvPicPr/>
          <p:nvPr/>
        </p:nvPicPr>
        <p:blipFill>
          <a:blip r:embed="rId3"/>
          <a:stretch/>
        </p:blipFill>
        <p:spPr>
          <a:xfrm>
            <a:off x="5724360" y="3030480"/>
            <a:ext cx="3424320" cy="3783240"/>
          </a:xfrm>
          <a:prstGeom prst="rect">
            <a:avLst/>
          </a:prstGeom>
          <a:ln w="0">
            <a:noFill/>
          </a:ln>
        </p:spPr>
      </p:pic>
      <p:sp>
        <p:nvSpPr>
          <p:cNvPr id="1475" name="Заголовок 1"/>
          <p:cNvSpPr/>
          <p:nvPr/>
        </p:nvSpPr>
        <p:spPr>
          <a:xfrm>
            <a:off x="5292720" y="1341360"/>
            <a:ext cx="381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Бюро САП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5797-9036-419F-8245-5A54A15B611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7" name="Прямая со стрелкой 13"/>
          <p:cNvCxnSpPr/>
          <p:nvPr/>
        </p:nvCxnSpPr>
        <p:spPr>
          <a:xfrm flipV="1">
            <a:off x="1402920" y="4587120"/>
            <a:ext cx="1080" cy="840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78" name="Заголовок 1"/>
          <p:cNvSpPr/>
          <p:nvPr/>
        </p:nvSpPr>
        <p:spPr>
          <a:xfrm>
            <a:off x="36360" y="5300640"/>
            <a:ext cx="272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спонд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Скругленный прямоугольник 5"/>
          <p:cNvSpPr/>
          <p:nvPr/>
        </p:nvSpPr>
        <p:spPr>
          <a:xfrm>
            <a:off x="309600" y="1847880"/>
            <a:ext cx="2436840" cy="2739960"/>
          </a:xfrm>
          <a:custGeom>
            <a:avLst/>
            <a:gdLst>
              <a:gd name="textAreaLeft" fmla="*/ 118800 w 2436840"/>
              <a:gd name="textAreaRight" fmla="*/ 2318040 w 2436840"/>
              <a:gd name="textAreaTop" fmla="*/ 118800 h 2739960"/>
              <a:gd name="textAreaBottom" fmla="*/ 2621160 h 2739960"/>
            </a:gdLst>
            <a:ahLst/>
            <a:rect l="textAreaLeft" t="textAreaTop" r="textAreaRight" b="textAreaBottom"/>
            <a:pathLst>
              <a:path w="21600" h="24286">
                <a:moveTo>
                  <a:pt x="3600" y="0"/>
                </a:moveTo>
                <a:arcTo wR="3600" hR="3600" stAng="16200000" swAng="-5400000"/>
                <a:lnTo>
                  <a:pt x="0" y="20686"/>
                </a:lnTo>
                <a:arcTo wR="3600" hR="3600" stAng="10800000" swAng="-5400000"/>
                <a:lnTo>
                  <a:pt x="18000" y="24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Заголовок 1"/>
          <p:cNvSpPr/>
          <p:nvPr/>
        </p:nvSpPr>
        <p:spPr>
          <a:xfrm>
            <a:off x="3648240" y="1916280"/>
            <a:ext cx="1284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1" name="Прямая со стрелкой 16"/>
          <p:cNvCxnSpPr/>
          <p:nvPr/>
        </p:nvCxnSpPr>
        <p:spPr>
          <a:xfrm>
            <a:off x="4355640" y="2409840"/>
            <a:ext cx="1080" cy="82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2" name="Скругленный прямоугольник 18"/>
          <p:cNvSpPr/>
          <p:nvPr/>
        </p:nvSpPr>
        <p:spPr>
          <a:xfrm>
            <a:off x="3216240" y="3255840"/>
            <a:ext cx="2435400" cy="2981520"/>
          </a:xfrm>
          <a:custGeom>
            <a:avLst/>
            <a:gdLst>
              <a:gd name="textAreaLeft" fmla="*/ 118800 w 2435400"/>
              <a:gd name="textAreaRight" fmla="*/ 2316600 w 2435400"/>
              <a:gd name="textAreaTop" fmla="*/ 118800 h 2981520"/>
              <a:gd name="textAreaBottom" fmla="*/ 2862720 h 298152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Заголовок 1"/>
          <p:cNvSpPr/>
          <p:nvPr/>
        </p:nvSpPr>
        <p:spPr>
          <a:xfrm>
            <a:off x="6372360" y="1989000"/>
            <a:ext cx="20984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е запи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4" name="Прямая со стрелкой 20"/>
          <p:cNvCxnSpPr/>
          <p:nvPr/>
        </p:nvCxnSpPr>
        <p:spPr>
          <a:xfrm>
            <a:off x="7451280" y="2678040"/>
            <a:ext cx="1080" cy="92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5" name="Скругленный прямоугольник 21"/>
          <p:cNvSpPr/>
          <p:nvPr/>
        </p:nvSpPr>
        <p:spPr>
          <a:xfrm>
            <a:off x="6012000" y="3616200"/>
            <a:ext cx="2952720" cy="304164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041640"/>
              <a:gd name="textAreaBottom" fmla="*/ 2897640 h 3041640"/>
            </a:gdLst>
            <a:ahLst/>
            <a:rect l="textAreaLeft" t="textAreaTop" r="textAreaRight" b="textAreaBottom"/>
            <a:pathLst>
              <a:path w="21600" h="22250">
                <a:moveTo>
                  <a:pt x="3600" y="0"/>
                </a:moveTo>
                <a:arcTo wR="3600" hR="3600" stAng="16200000" swAng="-5400000"/>
                <a:lnTo>
                  <a:pt x="0" y="18650"/>
                </a:lnTo>
                <a:arcTo wR="3600" hR="3600" stAng="10800000" swAng="-5400000"/>
                <a:lnTo>
                  <a:pt x="18000" y="222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387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: беспрецедентная гиб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85680" y="1484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а организация управления информацией и работами практически для любых смежных задач, 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отдела автоматизации (заявки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 паспортизация им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егченный вариант управления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в стандартов и других нормативны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ценный справочник по сотрудникам пред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е автоматические и полуавтоматические рассылки информации (дни рождения, напоминания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о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ак дале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чти на любой вопрос «можно ли…» мы отвечаем: «мож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tsia PDM Plu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– инструмент в ВАШИХ Р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59B-6DFD-49C5-95DD-5E89441FEA2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Заголовок 1"/>
          <p:cNvSpPr/>
          <p:nvPr/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Лучше не один раз увиде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Подзаголовок 2"/>
          <p:cNvSpPr/>
          <p:nvPr/>
        </p:nvSpPr>
        <p:spPr>
          <a:xfrm>
            <a:off x="179280" y="1557360"/>
            <a:ext cx="8780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постоянной основе мы проводим бесплатные (в том числе выездные) демонстрации работ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tsia PDM Pl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оприятия проводятся по Вашим предварительным заяв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тактное лицо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ликова Светл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ефон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495) 74-804-74, 74-803-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лектронная почта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golikova@lotsi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5C6-39D3-4C67-AA3A-CFE3CF8CE6B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Заголовок 1"/>
          <p:cNvSpPr/>
          <p:nvPr/>
        </p:nvSpPr>
        <p:spPr>
          <a:xfrm>
            <a:off x="611280" y="1773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571400" y="215640"/>
            <a:ext cx="75596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Заголовок 1"/>
          <p:cNvSpPr/>
          <p:nvPr/>
        </p:nvSpPr>
        <p:spPr>
          <a:xfrm>
            <a:off x="611280" y="3429000"/>
            <a:ext cx="8208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www.lotsia.c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 www.lplm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 www.plm-conference.c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A028-4B37-4BD8-BF83-9DC1F63AECF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Некоторые пользователи из числа проектных организ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Содержимое 2"/>
          <p:cNvSpPr/>
          <p:nvPr/>
        </p:nvSpPr>
        <p:spPr>
          <a:xfrm>
            <a:off x="4500720" y="1357200"/>
            <a:ext cx="3071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 Box 10"/>
          <p:cNvSpPr/>
          <p:nvPr/>
        </p:nvSpPr>
        <p:spPr>
          <a:xfrm>
            <a:off x="0" y="1413000"/>
            <a:ext cx="277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ммофо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гарский электролиз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й комбин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эро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шнеф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городобл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азпроектинжиниринг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кок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пищепром №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трубопровод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проект, г. Пен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СП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рВодГе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непрВНИПИэнергоп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н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айкал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т промышленного  проектирования угольных  предпри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Box 11"/>
          <p:cNvSpPr/>
          <p:nvPr/>
        </p:nvSpPr>
        <p:spPr>
          <a:xfrm>
            <a:off x="2843280" y="1413000"/>
            <a:ext cx="334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т «Шельф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ркутск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ркутский промстрой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ЦЭ Поволжь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асноярскграждан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пецкий ГИПРОМ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УКОЙЛ-инфор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УКОЙЛ-Нижегороднефтеоргсинте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сгипротран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синж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фтепродукт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ИГражданСельстр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ПИгазпереработ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Ц «НЕФТЕГАЗ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тров Индуст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Ц «Северонике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КФ Концерна «Росэнергоат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икв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Box 12"/>
          <p:cNvSpPr/>
          <p:nvPr/>
        </p:nvSpPr>
        <p:spPr>
          <a:xfrm>
            <a:off x="6194520" y="1357200"/>
            <a:ext cx="291456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ный институт №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стройдизай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ратов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веро-Западная инжиниринговая корпор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гипротранспу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НИПИР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дор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ПРОМНИИ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химпром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ойтранс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хно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Э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юменНИИгипро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аинский Нефтегазовый Инстит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Хим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ЮжНИИгипро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кутагроп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ославграждан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D09A-1F24-4BE9-9957-A0B52A287B7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71760" y="-27000"/>
            <a:ext cx="7387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Некоторые пользователи из числа машиностроительных и приборостроительных предприят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71280" y="1643040"/>
            <a:ext cx="41403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Электромехн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Электрощи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Метровагонма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НПО «Иск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энерго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ЭК «Динам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К «Таврида Электр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митровградхим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ментальный завод - П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Б «Южно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рн радиостроения «Вег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шзавод им. Дзержин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я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рманское морское парох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12"/>
          <p:cNvSpPr/>
          <p:nvPr/>
        </p:nvSpPr>
        <p:spPr>
          <a:xfrm>
            <a:off x="4284720" y="1660680"/>
            <a:ext cx="482436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И Приборостро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ЛОМ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НПК «ЭЛАРА» имени Г. А. Ильенко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Российские космические систем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Техприб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нзхим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енский приборостроительный за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енское Приборостроительное Конструкторское Бю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ТК им. Кузнец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доремонтный завод «Нерп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хгорный приборостроительный за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Тонких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CD8-D887-4F52-803F-1A996A9CDC3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75722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Специфика внедрения в проектных организац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71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стандартов СПД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ЕСКД (для механи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отраслевых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Ф № 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внутренних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ие требованиям стандартов сер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9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ровождение проектов в рамках авторского над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807-A451-4AE4-81A0-4F63D7B2D41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2:50:00Z</dcterms:created>
  <dc:creator/>
  <dc:description/>
  <dc:language>en-US</dc:language>
  <cp:lastModifiedBy>Ls_103</cp:lastModifiedBy>
  <cp:lastPrinted>2011-04-23T20:03:53Z</cp:lastPrinted>
  <dcterms:modified xsi:type="dcterms:W3CDTF">2012-04-24T14:05:33Z</dcterms:modified>
  <cp:revision>1</cp:revision>
  <dc:subject/>
  <dc:title>Lotsia  PDM Plus</dc:title>
</cp:coreProperties>
</file>